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000" y="6486480"/>
            <a:ext cx="88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SD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ata Structures and Algorithm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Hard Problem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LSD210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form the Bridges Probl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odes = land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dges = bridge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o solution!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termined in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)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ime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gr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amiltonian Path?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70" name="euler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676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miltonian Path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though a path may easily found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in this case,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279f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no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known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efficient algorithm for finding a Hamiltonian path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ut if we find a path,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 can verify that it is a Hamiltonian path in polynomial -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|E|)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heck that each edge in the path is an edge in the graph (use adjacency matrix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heck that each vertex is visited once only -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asses P and NP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ass P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solvable in polynomial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 Euler’s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ass NP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terministic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ynom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 Hamilton’s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ass NP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n-deterministic Polynomia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step,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u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step to take ne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g which vertex to 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found a correct solu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 polynomial time on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Nothing from previous steps guides the next ste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ou have to try all possibiliti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!)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gorith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19480" y="1770120"/>
            <a:ext cx="2967840" cy="127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ou simply gu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889520" y="2362320"/>
            <a:ext cx="1727280" cy="0"/>
          </a:xfrm>
          <a:prstGeom prst="line">
            <a:avLst/>
          </a:prstGeom>
          <a:ln w="127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nning the Turing Award*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No proof that any problem </a:t>
            </a:r>
            <a:r>
              <a:rPr b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class NP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oblems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eg Hamiltonian path)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re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believed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to be in class NP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ecause no polynomial time algorith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is known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ving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that a problem </a:t>
            </a:r>
            <a:r>
              <a:rPr b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class NP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finding a class P algorithm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nstant fame!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34000" y="5167440"/>
            <a:ext cx="60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’s equivalent of the Nobel P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termine whether a numb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can be written as the product of two other number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If the divisors can be found, then it’s simple to verify that they are divisors,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fficient method of finding them is kn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Probl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ou have to assign students to rooms in a colle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You are a compatibility ma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are verti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le students are linked by an 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f rooms hold 2 students,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P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ut if rooms hold 3 students,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NP problem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olean Satisfiability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nd an assignment of values (true or false)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so th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79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are boolean operator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, or, ...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quivalent t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ircuit satisfiability problem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set of inputs which produce a true at the output of a circuit composed of logic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olution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ible assign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5600" y="1662120"/>
            <a:ext cx="2832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p Colourin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lour a map using only three colours,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o that adjoining countries don’t have the same colou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asily answered for 2 colour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at which an odd numb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countries me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olvable for 4 colou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that 4 colours suffice for any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206000" y="3517920"/>
            <a:ext cx="10188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p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51460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p Colouring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quivalent Proble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Graph equivalen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es = 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s connect countries with common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ork schedul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es =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s represent common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e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linked tasks require some machin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lour marking of the ver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 of tasks to 3 shifts in a da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1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olynomial multiplication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efficient representatio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-value representatio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sion (simple)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T does conversion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F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transform into odd and even compon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ducing Problem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duc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Colouring  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oolean satisf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lution can be constructed by assignment of true or false to a set of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95680" y="2744640"/>
            <a:ext cx="275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tru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is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6040" y="3125880"/>
            <a:ext cx="292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tru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is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3506760"/>
            <a:ext cx="312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tru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is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5680" y="3963960"/>
            <a:ext cx="2751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tru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is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ducing Problem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p colouring solu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can find a set of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make this expression tru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found a map colo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79f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pecial class of problems in N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P-comple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problems in N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efficiently reducible to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fficiently = “in polynomial time”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58000" y="1601640"/>
            <a:ext cx="591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(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&amp; ~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&amp; ~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&amp; (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&amp; ~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... ) &amp; (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2971800"/>
            <a:ext cx="1371600" cy="4572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P-Complete problem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ny problems have been shown to be efficiently reducible to boolean satisfiabilit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 efficient solution to this (and thus any other NP-complete problem!) has eluded many researchers for a long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t’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elieve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that class NP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class 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60360" y="3444840"/>
            <a:ext cx="1690560" cy="4899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79840" y="3733920"/>
            <a:ext cx="397512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184120" y="3403440"/>
            <a:ext cx="584280" cy="35568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724280" y="3657600"/>
            <a:ext cx="1447920" cy="380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lving NP-Complete problem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tractible problem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solubl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’s just a question of pat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or longevity!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n-deterministic algorith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279f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n-deterministic (guessing) ste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next step random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guidelines: any step may be the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279f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terministic ste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(in polynomial time) whether you have found a solution or n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2160" y="3581280"/>
            <a:ext cx="1690560" cy="4899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ravelling Salesman Probl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 salesman has a number of cities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ich he must visit,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nd th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inimum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cost tou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timisation problem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 we reduce it to boolean satisfiabi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blem must hav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/ fals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answe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st 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es a tour exist with cost less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du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until the answer is provably no ...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279f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timal tou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is problem may be proved equivalent to finding a Hamiltonian circui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Travelling Salesman Probl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 salesman has a number of cities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ich he must visit,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nd th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inimum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cost tou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ny real world problems map to TS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ing circuit bo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 to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ow do we solve it?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imate techniques leading t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ar-opti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find the optimal solution, will you kn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sp" descr=""/>
          <p:cNvPicPr/>
          <p:nvPr/>
        </p:nvPicPr>
        <p:blipFill>
          <a:blip r:embed="rId1"/>
          <a:stretch/>
        </p:blipFill>
        <p:spPr>
          <a:xfrm>
            <a:off x="6553080" y="3352680"/>
            <a:ext cx="22482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tsp_mst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248200" cy="1676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velling Salesman Heuristic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art with the Minimum Spanning Tre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timal tour cost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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2 MST cos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euristic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fides’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une the tour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y taking short-cut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ur must be a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ulerian path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ertex of even deg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dd edges to odd degree vertic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fides’ algorith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s a tou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.5 optimal tour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velling Salesman Heuristic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nding”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ivide the region into band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ci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ch b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sm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 TS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can be solv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exhaus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rute-forc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y all solu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 algorith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join the band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and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41928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velling Salesman Heuristic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Genetic algorith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cal evolution ana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ably eff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ivially parallelisable!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mulated anneal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: Annealing of sol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heads towards local min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allows some probability of climbing hills to escape a local min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arch trees can be hu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ss: ~40 possible choices for each m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+-move look-ahead needed to w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4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positions to explor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dern computers just “touching” this capabilit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ium @ 150MHz   ~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valuations/seco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E student programming .. so you can add a factor of 10 if you like  _x0003_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a rather boring game ... ~1 year/move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1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F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k=0,n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valu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m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in each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0320" y="2874960"/>
            <a:ext cx="498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ev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)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-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/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4200" y="3408480"/>
            <a:ext cx="4923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)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... +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/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8920" y="3941640"/>
            <a:ext cx="359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x) 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ev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ard gam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a “score” can be assigned to a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er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axi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s sc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nent tries to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ini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s sc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 proceeds in alternat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se and minimise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ini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cture 21 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Key poi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F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reali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terative - for efficienc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“butterfly” st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efficients swapped based on bit reversal of index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lynomial or Intractable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olynomial time complexity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algorithm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tractabl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gorithm is kn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!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k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milar Problems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uler’s Proble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re a path through a graph which traverses each edge only on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amilton’s Problem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re a path which visits each vertex only on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uler’s Probl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Bridges of Königsberg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I make a tou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park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ing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only on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konigsberg" descr=""/>
          <p:cNvPicPr/>
          <p:nvPr/>
        </p:nvPicPr>
        <p:blipFill>
          <a:blip r:embed="rId1"/>
          <a:stretch/>
        </p:blipFill>
        <p:spPr>
          <a:xfrm>
            <a:off x="3819600" y="1676520"/>
            <a:ext cx="50194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onigsberg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41936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Bridges of Königsberg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 Sunday Stroll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I make a tou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the park, cross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bridge only onc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austive 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 at each point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raverse all possible paths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2)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!)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71560" y="4266720"/>
            <a:ext cx="1184040" cy="1052280"/>
            <a:chOff x="871560" y="4266720"/>
            <a:chExt cx="1184040" cy="1052280"/>
          </a:xfrm>
        </p:grpSpPr>
        <p:sp>
          <p:nvSpPr>
            <p:cNvPr id="61" name=""/>
            <p:cNvSpPr/>
            <p:nvPr/>
          </p:nvSpPr>
          <p:spPr>
            <a:xfrm>
              <a:off x="871560" y="4565520"/>
              <a:ext cx="1184040" cy="753480"/>
            </a:xfrm>
            <a:prstGeom prst="roundRect">
              <a:avLst>
                <a:gd name="adj" fmla="val 12495"/>
              </a:avLst>
            </a:prstGeom>
            <a:solidFill>
              <a:srgbClr val="fafd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o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905120" y="4266720"/>
              <a:ext cx="0" cy="330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319480" y="4266720"/>
            <a:ext cx="1184040" cy="1052280"/>
            <a:chOff x="2319480" y="4266720"/>
            <a:chExt cx="1184040" cy="1052280"/>
          </a:xfrm>
        </p:grpSpPr>
        <p:sp>
          <p:nvSpPr>
            <p:cNvPr id="64" name=""/>
            <p:cNvSpPr/>
            <p:nvPr/>
          </p:nvSpPr>
          <p:spPr>
            <a:xfrm>
              <a:off x="2319480" y="4565520"/>
              <a:ext cx="1184040" cy="753480"/>
            </a:xfrm>
            <a:prstGeom prst="roundRect">
              <a:avLst>
                <a:gd name="adj" fmla="val 12495"/>
              </a:avLst>
            </a:prstGeom>
            <a:solidFill>
              <a:srgbClr val="fafd00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o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514600" y="4266720"/>
              <a:ext cx="0" cy="3301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ulerian Path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ulerian Path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xists 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iff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ossible to go from any vertex to any other by following the edg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ph must be connec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vertex must have an even number of edges connected to it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t most two exceptions (the start and end poi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bviously necessary conditions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7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ufficiency proof may be found in the literature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9:48:28Z</dcterms:created>
  <dc:creator>jmm</dc:creator>
  <dc:description/>
  <dc:language>en-US</dc:language>
  <cp:lastModifiedBy>jm</cp:lastModifiedBy>
  <dcterms:modified xsi:type="dcterms:W3CDTF">1998-10-12T03:32:20Z</dcterms:modified>
  <cp:revision>16</cp:revision>
  <dc:subject>hard problems</dc:subject>
  <dc:title>Data Structures and Algorithms</dc:title>
</cp:coreProperties>
</file>