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is  tra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is  tra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duct of upper bounds is upper bound for the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an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r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r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is  tra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duct of upper bounds is upper bound for the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an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r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r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ponential functions grow faster than p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 &gt; 1 and 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is  O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05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is  tra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duct of upper bounds is upper bound for the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an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r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r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ponential functions grow faster than p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 &gt; 1 and 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is  O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05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garithms grow more slowly than p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 &gt; 1 and 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  is  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8120"/>
            <a:ext cx="8229600" cy="2971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5724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is  tra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h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duct of upper bounds is upper bound for the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an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r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r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ponential functions grow faster than p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 &gt; 1 and 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is  O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05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garithms grow more slowly than p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53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 &gt; 1 and 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  is  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5440" y="5486400"/>
            <a:ext cx="193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Import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logarithms grow at the same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, d &gt; 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logarithms grow at the same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b, d &gt; 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um of fir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powers grows a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r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i   =                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8280" y="2971800"/>
            <a:ext cx="5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1640" y="2438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4080" y="3870360"/>
            <a:ext cx="5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7440" y="3336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4120" y="34290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(n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27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886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and Intractable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olynomial Time complex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 algorithm is said to be polynomial if it is </a:t>
            </a:r>
            <a:br>
              <a:rPr sz="24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for some integer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olynomial algorithms are said to b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fficien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solve problems in reasonable times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tractable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gorithms for which there is n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know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polynomial time algorith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We will come back to this important class later in the cours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81080" y="5257800"/>
            <a:ext cx="449604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nalysing an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tatement sequ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…. ;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s long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constan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lo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=0;i&lt;n;i++) { s; }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 complexity is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 or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=0;i&lt;n;i++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for(j=0;j&lt;n;j++) { s; }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lexity is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O(n)  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r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13360" y="4989600"/>
            <a:ext cx="189756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r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4114800"/>
            <a:ext cx="8380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114800"/>
            <a:ext cx="0" cy="9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nalysing an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index doesn’t vary linear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= 1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h &lt;= n 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h = 2 * h;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akes valu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 4, 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ntil it excee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re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y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General Portable Performance Metri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lly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solve a problem of siz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(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is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 = 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Formal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g(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 set of functions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 &lt;  c g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94160" indent="-276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ome cons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94160" indent="-276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ly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writ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94160" indent="-276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sa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86200" y="4419720"/>
            <a:ext cx="2579400" cy="992880"/>
            <a:chOff x="3886200" y="4419720"/>
            <a:chExt cx="2579400" cy="992880"/>
          </a:xfrm>
        </p:grpSpPr>
        <p:sp>
          <p:nvSpPr>
            <p:cNvPr id="43" name=""/>
            <p:cNvSpPr/>
            <p:nvPr/>
          </p:nvSpPr>
          <p:spPr>
            <a:xfrm>
              <a:off x="4038480" y="45720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6560" y="4419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7656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00240" y="4952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86200" y="4876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54600" y="464184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400800" y="3657600"/>
            <a:ext cx="2133720" cy="84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uffici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6720" y="5618160"/>
            <a:ext cx="38304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is an upper bound for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05320" y="2133720"/>
            <a:ext cx="6094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nalysing an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index depends on outer loop 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=0;j&lt;n;j++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k=0;k&lt;j;k++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}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ner loop execut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975960" indent="-19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 3, …., n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y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97920" y="4216320"/>
            <a:ext cx="441360" cy="502200"/>
          </a:xfrm>
          <a:custGeom>
            <a:avLst/>
            <a:gdLst>
              <a:gd name="textAreaLeft" fmla="*/ 21240 w 441360"/>
              <a:gd name="textAreaRight" fmla="*/ 420120 w 441360"/>
              <a:gd name="textAreaTop" fmla="*/ 21240 h 502200"/>
              <a:gd name="textAreaBottom" fmla="*/ 480960 h 502200"/>
            </a:gdLst>
            <a:ahLst/>
            <a:rect l="textAreaLeft" t="textAreaTop" r="textAreaRight" b="textAreaBottom"/>
            <a:pathLst>
              <a:path w="21600" h="24575">
                <a:moveTo>
                  <a:pt x="3600" y="0"/>
                </a:moveTo>
                <a:arcTo wR="3600" hR="3600" stAng="16200000" swAng="-5400000"/>
                <a:lnTo>
                  <a:pt x="0" y="20975"/>
                </a:lnTo>
                <a:arcTo wR="3600" hR="3600" stAng="10800000" swAng="-5400000"/>
                <a:lnTo>
                  <a:pt x="18000" y="24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32840" y="4302000"/>
            <a:ext cx="2135160" cy="966600"/>
            <a:chOff x="1932840" y="4302000"/>
            <a:chExt cx="2135160" cy="966600"/>
          </a:xfrm>
        </p:grpSpPr>
        <p:sp>
          <p:nvSpPr>
            <p:cNvPr id="106" name=""/>
            <p:cNvSpPr/>
            <p:nvPr/>
          </p:nvSpPr>
          <p:spPr>
            <a:xfrm>
              <a:off x="1936800" y="4454280"/>
              <a:ext cx="1010880" cy="576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2840" y="4759200"/>
              <a:ext cx="58860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68920" y="4302000"/>
              <a:ext cx="10990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(n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9880" y="4730760"/>
              <a:ext cx="368280" cy="495000"/>
            </a:xfrm>
            <a:custGeom>
              <a:avLst/>
              <a:gdLst>
                <a:gd name="textAreaLeft" fmla="*/ 17640 w 368280"/>
                <a:gd name="textAreaRight" fmla="*/ 350640 w 368280"/>
                <a:gd name="textAreaTop" fmla="*/ 17640 h 495000"/>
                <a:gd name="textAreaBottom" fmla="*/ 477360 h 495000"/>
              </a:gdLst>
              <a:ahLst/>
              <a:rect l="textAreaLeft" t="textAreaTop" r="textAreaRight" b="textAreaBottom"/>
              <a:pathLst>
                <a:path w="21600" h="29025">
                  <a:moveTo>
                    <a:pt x="3600" y="0"/>
                  </a:moveTo>
                  <a:arcTo wR="3600" hR="3600" stAng="16200000" swAng="-5400000"/>
                  <a:lnTo>
                    <a:pt x="0" y="25425"/>
                  </a:lnTo>
                  <a:arcTo wR="3600" hR="3600" stAng="10800000" swAng="-5400000"/>
                  <a:lnTo>
                    <a:pt x="18000" y="290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047400" y="4759200"/>
              <a:ext cx="83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764240" y="3654360"/>
            <a:ext cx="4000320" cy="2604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guish this cas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the iteration count increases (decreases) by a constant 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revious one 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it changes by a factor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General Portable Performance Metri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 set of fun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at grow no fa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orst case behavi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algorithm tha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General Portable Performance Metri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 set of fun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at grow no fa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orst case behavi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algorithm tha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wo additional no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functions, f,  such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 &gt;  c g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ome cons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4038480"/>
            <a:ext cx="236232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is a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lower bound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for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General Portable Performance Metri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 set of fun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at grow no fa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orst case behavi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algorithm tha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wo additional no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functions, f,  such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 &gt;  c g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9680" indent="-26820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ome cons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=  O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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4038480"/>
            <a:ext cx="236232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is a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lower bound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for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257800"/>
            <a:ext cx="405936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Set of functions growing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at the same rate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as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tant factors may be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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f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f)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tant factors may be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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f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f)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gher powers grow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i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tant factors may be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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f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f)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gher powers grow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i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stest growing term dominates a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,  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+ g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a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+  b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perties of the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O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no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tant factors may be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5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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f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f)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gher powers grow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59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i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stest growing term dominates a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5956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,  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+ g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45200" indent="-259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a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+  b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lynomial’s growth rate is determined by leading 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5956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a polynomial of deg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6T04:07:26Z</dcterms:created>
  <dc:creator>jm</dc:creator>
  <dc:description/>
  <dc:language>en-US</dc:language>
  <cp:lastModifiedBy>jm</cp:lastModifiedBy>
  <cp:lastPrinted>1998-07-27T03:15:14Z</cp:lastPrinted>
  <dcterms:modified xsi:type="dcterms:W3CDTF">1998-09-08T11:01:26Z</dcterms:modified>
  <cp:revision>5</cp:revision>
  <dc:subject/>
  <dc:title>Data Structures and Algorithms</dc:title>
</cp:coreProperties>
</file>