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valenc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s 17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llections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ertice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dg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th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panning Tre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a path from any vertex to any other vert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7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panning Tree of minimum cos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measure may be anything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vertices into single element tree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edge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next cheapest ed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ess it forms a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 when we’ve added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V|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d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reedy algorithm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look ahead 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“naive” choice at every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7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dy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on’t look ahead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ke a “naive” choice at every step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metimes difficult to pro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 by contradi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mploy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s classes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vide and Conqu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ynamic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reed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quivalence Clas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etermination in M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lies on Union Find structu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s pointing to a represent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ertices ar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tione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into equivalence clas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ce relation: a path connects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dge creates a cycle if both its end-poi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e same represent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226080">
              <a:spcBef>
                <a:spcPts val="499"/>
              </a:spcBef>
              <a:buClr>
                <a:srgbClr val="000000"/>
              </a:buClr>
              <a:buFont typeface="Symbol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same equivalenc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tition input data into equivalence clas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692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: processed in the same wa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quivalence Clas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artition input data into equivalence clas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: processed in the same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hoose a representative of the clas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the represen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all inputs in the same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xperienced Software Engineeer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pecial 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dentities - 0 and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choose boundaries, identities, etc as a representat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quivalence Clas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gram verif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Experienced Software Engineeer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pecial 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dentities - 0 and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ose boundaries, identities, etc as a represen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en though this might be formally OK!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quivalence Clas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ssignment 4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quivalence classes of function to be t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up a program to apply a representative of each class to the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ble or file driven input be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on’t forge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ecification should tell you what will happen on empty or degenerate data se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mpty lists, single node graphs,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tc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iolates pre-condi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hould raise assertion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162920" y="3733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quivalence Class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on’t forge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ecification should tell you what will happen on empty or degenerate data se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mpty lists, single node graphs,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tc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iolates pre-condi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hould raise assertion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7-20T02:58:02Z</cp:lastPrinted>
  <dcterms:modified xsi:type="dcterms:W3CDTF">1998-09-13T11:19:26Z</dcterms:modified>
  <cp:revision>8</cp:revision>
  <dc:subject/>
  <dc:title>PLSD210(ii)</dc:title>
</cp:coreProperties>
</file>