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Times New Roman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s as Data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SD2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05120" y="2133720"/>
            <a:ext cx="152280" cy="304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733920"/>
            <a:ext cx="29718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eneralised Collection Clas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n the constructor code, </a:t>
            </a:r>
            <a:br>
              <a:rPr sz="2400"/>
            </a:b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reat the function just like any other data it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812960"/>
            <a:ext cx="8382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lection ConsCollection( int max_item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(*compar)(const void *,const void * ) 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ollection c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 = malloc( sizeof( struct collection )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if ( c != NULL 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c-&gt;max_items = max_item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c-&gt;compar = comp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6172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3200400"/>
            <a:ext cx="2882880" cy="1793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poin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 function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the add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beginning of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’s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2819160" y="4038480"/>
            <a:ext cx="533160" cy="457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133720" y="2514600"/>
            <a:ext cx="5486400" cy="8380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32080" y="4376880"/>
            <a:ext cx="2819520" cy="1117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pointer (it’s an address) just like any other data val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114800" y="2666880"/>
            <a:ext cx="243828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2666880"/>
            <a:ext cx="175284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Using a pointer to a func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Use the attribute as the name of a fun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676520"/>
            <a:ext cx="8382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FindInCollection( void *key 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int k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for(k=0;k&lt;c-&gt;cnt;k++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if( *c-&gt;compar( key, c-&gt;data[k] ) == 0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return c-&gt;data[k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6172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960" y="3813120"/>
            <a:ext cx="3502080" cy="1455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-&gt;comp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pointer to a function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e-refer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access th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895480" y="2895120"/>
            <a:ext cx="0" cy="8384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409720" y="2971440"/>
            <a:ext cx="685800" cy="6094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3581280"/>
            <a:ext cx="2882880" cy="1455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upply it with argument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 like any other fun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09680" y="2666880"/>
            <a:ext cx="304920" cy="38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2666880"/>
            <a:ext cx="14479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Using a pointer to a func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Use the attribute as the name of a fun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676520"/>
            <a:ext cx="8382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FindInCollection( void *key 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int k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for(k=0;k&lt;c-&gt;cnt;k++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if( *c-&gt;compar( key, c-&gt;data[k] ) == 0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return c-&gt;data[k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6172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7960" y="3813120"/>
            <a:ext cx="3502080" cy="1455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-&gt;comp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pointer to a function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e-refer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access th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95480" y="2895120"/>
            <a:ext cx="0" cy="8384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514600" y="2971440"/>
            <a:ext cx="3124080" cy="7621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581280"/>
            <a:ext cx="2882880" cy="1455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the compiler will be kind and understand if you forget this asteris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505320" y="3429000"/>
            <a:ext cx="8380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429000"/>
            <a:ext cx="121932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819520"/>
            <a:ext cx="8382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menu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har *desc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int (*action)( void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} file_menu[ ]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“Save”,    save_function }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{ “Save as”, save_as_function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172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Functions as Data - Other us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-drive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eg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menu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n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tring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ction to be performed if the entry is selecte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895480"/>
            <a:ext cx="281952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er to a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3429000"/>
            <a:ext cx="3886200" cy="441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takes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86200" y="4038480"/>
            <a:ext cx="2057400" cy="38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4343400"/>
            <a:ext cx="270036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4038480"/>
            <a:ext cx="121896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4343400"/>
            <a:ext cx="160020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2819520"/>
            <a:ext cx="8382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menu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har *desc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int (*action)( void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} file_menu[ ]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“Save”,    save_function }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{ “Save as”, save_as_function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6172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Functions as Data - Other us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-drive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eg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menu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n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tring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ction to be performed if the entry is selecte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4800600"/>
            <a:ext cx="2851200" cy="77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s which appear in the m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4648320"/>
            <a:ext cx="2880000" cy="1117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s which are called when the item is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838080" y="4800600"/>
            <a:ext cx="335304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4495680"/>
            <a:ext cx="396216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Functions as Data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ther us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Using the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371600"/>
            <a:ext cx="8381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menu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har *desc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int (*action)( void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} file_menu[ ]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“Save”,  save_function }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{ “Save as”, save_as_function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ile_menu_callback(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int k = item_selected( file_menu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ile_menu[k].action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6172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4800600"/>
            <a:ext cx="3119400" cy="441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the actio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266720" y="4952880"/>
            <a:ext cx="129564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952880" y="3581280"/>
            <a:ext cx="914400" cy="9144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97520" y="3157560"/>
            <a:ext cx="2822760" cy="77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which item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library implemen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POSIX standard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" y="2209680"/>
            <a:ext cx="8258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qsort( void *base, size_t n, size_t size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int (*compar)( const void *, const void *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e        address of arr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n           number of elem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size        size of an ele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mpar      compariso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3276720"/>
            <a:ext cx="68580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library implemen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POSIX standard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Compariso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unction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C allows you to pass a function to another function!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8640" y="1676520"/>
            <a:ext cx="8258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qsort( void *base, size_t n, size_t size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int (*compar)( const void *, const void *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e        address of arr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n           number of elem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size        size of an ele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mpar      compariso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00200" y="2057400"/>
            <a:ext cx="144792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Functions as data types - decla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s as data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eclara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9810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(*compar)( const void *, const void * 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93720" y="2590920"/>
            <a:ext cx="5259600" cy="77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heses around the * and th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inguish this a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 pointer to a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2362320"/>
            <a:ext cx="0" cy="22860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0384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compar( const void *, const void * 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3640" y="4572000"/>
            <a:ext cx="470088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function returning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0640" y="3511440"/>
            <a:ext cx="213120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ntrast with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55840" y="1905120"/>
            <a:ext cx="4059360" cy="304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3680" y="2666880"/>
            <a:ext cx="3168720" cy="779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has two argument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void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2209680"/>
            <a:ext cx="0" cy="45720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905120"/>
            <a:ext cx="6858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Functions as data typ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s as data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eclara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 this declares 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ointer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o a function nam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hat takes tw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arguments and returns 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8288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(*compar)( const void *, const void * 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3640" y="2473200"/>
            <a:ext cx="359280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unction return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2209680"/>
            <a:ext cx="0" cy="22860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62520" y="3886200"/>
            <a:ext cx="380880" cy="1371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55840" y="1905120"/>
            <a:ext cx="4059360" cy="304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3680" y="2666880"/>
            <a:ext cx="3168720" cy="779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has two argument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void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2209680"/>
            <a:ext cx="0" cy="45720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905120"/>
            <a:ext cx="6858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Functions as data typ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s as data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eclara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 compare function passed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sort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retur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        *arg1   &lt;  *arg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        *arg1 == *arg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1        *arg1  &gt;  *arg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8288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(*compar)( const void *, const void * 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3640" y="2473200"/>
            <a:ext cx="359280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unction return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09680"/>
            <a:ext cx="0" cy="22860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36920" y="4175280"/>
            <a:ext cx="3578760" cy="7794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 as defining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ord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Functions as data typ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ibrary functions that need a special purpose func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ing needs a concept of 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 provides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rdering rule could be quite complex for a complex record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s in a telephone directo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ing also needs an 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6480" y="4419720"/>
            <a:ext cx="6994440" cy="3988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 on Web and in C texts - omitted from printed 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Functions as data typ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sing our collection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e used pointers to objec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one collection class to store any type of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l C pointers are the same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but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we had to assume external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mk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or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temcm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ricting us to one collection per program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he ordering function to the attrib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rdering rule stored with each collection objec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s many collections as we like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>
            <a:off x="5486040" y="1905120"/>
            <a:ext cx="152280" cy="2666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1600200"/>
            <a:ext cx="205740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572000"/>
            <a:ext cx="205740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eneralised Collection Clas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Redefine the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dd an element to the attrib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5238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lection ConsCollection( int max_item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(*compar)(const void *,const void * ) 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27672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t_collection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nt max_item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n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nt (*compar)( const void *, const void *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data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648320"/>
            <a:ext cx="4267080" cy="779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array - make appropr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for list, tre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76720" y="4724280"/>
            <a:ext cx="83808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00:58:10Z</dcterms:created>
  <dc:creator>jm</dc:creator>
  <dc:description/>
  <dc:language>en-US</dc:language>
  <cp:lastModifiedBy>jm</cp:lastModifiedBy>
  <cp:lastPrinted>1998-09-08T11:09:40Z</cp:lastPrinted>
  <dcterms:modified xsi:type="dcterms:W3CDTF">1999-08-17T03:52:08Z</dcterms:modified>
  <cp:revision>14</cp:revision>
  <dc:subject/>
  <dc:title>Data Structures and Algorithms</dc:title>
</cp:coreProperties>
</file>