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92160" y="6486480"/>
            <a:ext cx="88272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SD2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85800" y="121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ata Structures and Algorith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371600" y="2666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  <a:ea typeface="Arial"/>
              </a:rPr>
              <a:t>Hard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  <a:ea typeface="Arial"/>
              </a:rPr>
              <a:t>PLSD2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30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ecture 22 -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Key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12952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  <a:ea typeface="Arial"/>
              </a:rPr>
              <a:t>Polynomial multi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efficient representation: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(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oint-value representation: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version (simple):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(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FT does conversion i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(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  <a:ea typeface="Arial"/>
              </a:rPr>
              <a:t>F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vide and conquer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plit transform into odd and even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30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earch trees can be hu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ess: ~40 possible choices for each m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0+-move look-ahead needed to w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gt;4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positions to expl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dern computers just “touching” this cap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ntium @ 150MHz   ~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evaluations/seco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EE student programming .. so you can add a factor of 10 if you like  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ill a rather boring game ... ~1 year/move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30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Board g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ume a “score” can be assigned to a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yer tries to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maximi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his s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pponent tries to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minimi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his s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ame proceeds in alternatin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ximise and minimise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Mini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mm</dc:creator>
  <dc:description/>
  <dc:language>en-US</dc:language>
  <cp:lastModifiedBy>jm</cp:lastModifiedBy>
  <cp:revision>0</cp:revision>
  <dc:subject>hard problems</dc:subject>
  <dc:title>Data Structures and Algorithms</dc:title>
</cp:coreProperties>
</file>