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ffman Encoding and Deco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huffop5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2721240" cy="3581280"/>
          </a:xfrm>
          <a:prstGeom prst="rect">
            <a:avLst/>
          </a:prstGeom>
          <a:ln w="0">
            <a:noFill/>
          </a:ln>
        </p:spPr>
      </p:pic>
      <p:pic>
        <p:nvPicPr>
          <p:cNvPr id="90" name="huffop6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24732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6480" y="2666880"/>
            <a:ext cx="194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two tr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coding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huff_dec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4572000" cy="2749680"/>
          </a:xfrm>
          <a:prstGeom prst="rect">
            <a:avLst/>
          </a:prstGeom>
          <a:ln w="0">
            <a:noFill/>
          </a:ln>
        </p:spPr>
      </p:pic>
      <p:pic>
        <p:nvPicPr>
          <p:cNvPr id="95" name="huff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3530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Time Complexity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rt ke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m new sub-tree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ove sub-tree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br>
              <a:rPr sz="24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(binary search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ypically, in files and messages,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requires 1 byte or 8 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ready wasting 1 bit for most purpose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at’s the smallest number of bits that can be used to store an arbitrary piece of text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nd the frequency of occurrence of each charact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ncode Frequent character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hort bit string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arer character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onger bit string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a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ncode by following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ree to leaf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g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  is   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  is   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requent characters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, 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 bit encoding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thers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A, S, N, O    3 bit encoding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4" name="huff" descr=""/>
          <p:cNvPicPr/>
          <p:nvPr/>
        </p:nvPicPr>
        <p:blipFill>
          <a:blip r:embed="rId1"/>
          <a:stretch/>
        </p:blipFill>
        <p:spPr>
          <a:xfrm>
            <a:off x="4462560" y="914400"/>
            <a:ext cx="3843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59840" indent="-15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a 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61320" indent="-12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in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a direct-addressed lookup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able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601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the optimal 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mallest number of bits to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present arbitrary tex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6760" y="70812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70812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6760" y="203184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97640" y="203184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6760" y="114300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6760" y="158112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6760" y="243828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6760" y="288936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6760" y="335592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760" y="382284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6760" y="4289400"/>
            <a:ext cx="33300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97640" y="288936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7640" y="382284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97640" y="4289400"/>
            <a:ext cx="637920" cy="398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59840" indent="-15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cide on a root - n cho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cide on roots for sub-trees - n cho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peat n tim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61320" indent="-127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dy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rt characters by frequenc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m two lowest weight nodes into a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61320" indent="-12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-tree weight = sum of weights of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ove new tree to correct pla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huffop1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4876560" cy="1235160"/>
          </a:xfrm>
          <a:prstGeom prst="rect">
            <a:avLst/>
          </a:prstGeom>
          <a:ln w="0">
            <a:noFill/>
          </a:ln>
        </p:spPr>
      </p:pic>
      <p:pic>
        <p:nvPicPr>
          <p:cNvPr id="66" name="huffop2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2440" y="13716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ed by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1720" y="2971800"/>
            <a:ext cx="264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 lowest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sub-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it to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huffop3" descr=""/>
          <p:cNvPicPr/>
          <p:nvPr/>
        </p:nvPicPr>
        <p:blipFill>
          <a:blip r:embed="rId1"/>
          <a:stretch/>
        </p:blipFill>
        <p:spPr>
          <a:xfrm>
            <a:off x="3957480" y="2744640"/>
            <a:ext cx="3662640" cy="2522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8160" y="129528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shifting sub-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ts correct plac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7320" y="3505320"/>
            <a:ext cx="272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 next 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sub-tre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huffop2a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35053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huffop4" descr=""/>
          <p:cNvPicPr/>
          <p:nvPr/>
        </p:nvPicPr>
        <p:blipFill>
          <a:blip r:embed="rId1"/>
          <a:stretch/>
        </p:blipFill>
        <p:spPr>
          <a:xfrm>
            <a:off x="4357800" y="2655720"/>
            <a:ext cx="2805120" cy="2678400"/>
          </a:xfrm>
          <a:prstGeom prst="rect">
            <a:avLst/>
          </a:prstGeom>
          <a:ln w="0">
            <a:noFill/>
          </a:ln>
        </p:spPr>
      </p:pic>
      <p:pic>
        <p:nvPicPr>
          <p:cNvPr id="76" name="huffop3" descr=""/>
          <p:cNvPicPr/>
          <p:nvPr/>
        </p:nvPicPr>
        <p:blipFill>
          <a:blip r:embed="rId2"/>
          <a:stretch/>
        </p:blipFill>
        <p:spPr>
          <a:xfrm>
            <a:off x="3957480" y="609480"/>
            <a:ext cx="3205440" cy="2208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8880" y="1295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the new t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orrect plac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4440" y="3505320"/>
            <a:ext cx="344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lowest two ar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” sub-tree and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 and mov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uffop4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2805120" cy="2678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11920" y="91440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the new t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orrect plac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uffman Encod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er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0600" y="3657600"/>
            <a:ext cx="344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lowest two ar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25” and “30”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 and mov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huffop5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2720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9-13T15:52:06Z</cp:lastPrinted>
  <dcterms:modified xsi:type="dcterms:W3CDTF">1998-10-05T15:19:40Z</dcterms:modified>
  <cp:revision>21</cp:revision>
  <dc:subject/>
  <dc:title>PLSD210(ii)</dc:title>
</cp:coreProperties>
</file>