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9144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37803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37803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9144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803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Times New Roman"/>
              </a:rPr>
              <a:t>Data Structures and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SD2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3328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the minimum spanning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ut all the vertices into single node trees by themselv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505080" indent="-1940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ut all the edges in a priority queu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505080" indent="-1940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peat until we’ve constructed a spanning tre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790200" indent="-15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tract cheapest ed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0200" indent="-155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forms a cycle, ignore i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add it to the forest of tre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t will join two trees into a larger tre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turn the spanning tre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23328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2438280"/>
            <a:ext cx="0" cy="25909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243828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1200" y="3895560"/>
            <a:ext cx="6752160" cy="1455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 that this algorithm makes no attem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cl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ake any sophisticated choice of the nex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just tries the cheapest one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029200"/>
            <a:ext cx="289548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2362320"/>
            <a:ext cx="3276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743200"/>
            <a:ext cx="487656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C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822240"/>
            <a:ext cx="8105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MinimumSpanningTree( Graph g, int n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double **costs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ge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= ConsForest( g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ConsEdgeQueue( g, cost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(n-1)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ExtractCheapestEdge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!Cycle( e, T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Edge( T, 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66080" y="2209680"/>
            <a:ext cx="40838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Forest: single vertex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57280" y="2819520"/>
            <a:ext cx="2329560" cy="398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Queue of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3048120"/>
            <a:ext cx="3276360" cy="38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C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822240"/>
            <a:ext cx="8105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MinimumSpanningTree( Graph g, int n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double **costs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ge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= ConsForest( g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ConsEdgeQueue( g, cost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(n-1)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ExtractCheapestEdge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!Cycle( e, T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Edge( T, 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02280" y="1676520"/>
            <a:ext cx="2966760" cy="1008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need n-1 edg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ully connect (spa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76520" y="4267080"/>
            <a:ext cx="4495680" cy="381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3581280"/>
            <a:ext cx="44956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3962520"/>
            <a:ext cx="4190760" cy="304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C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822240"/>
            <a:ext cx="8105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MinimumSpanningTree( Graph g, int n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double **costs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ge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= ConsForest( g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ConsEdgeQueue( g, cost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(n-1)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ExtractCheapestEdge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!Cycle( e, T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Edge( T, 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5640" y="2895480"/>
            <a:ext cx="286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the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920" y="4191120"/>
            <a:ext cx="3728520" cy="703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 we find one that doesn’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a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17520" y="4952880"/>
            <a:ext cx="3204360" cy="39888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and add it to the fo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4572000"/>
            <a:ext cx="449568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657600"/>
            <a:ext cx="4800600" cy="304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y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e already know about this!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1000" y="1752480"/>
            <a:ext cx="8105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MinimumSpanningTree( Graph g, int n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double **costs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ge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= ConsForest( g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ConsEdgeQueue( g, cost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(n-1)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ExtractCheapestEdge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!Cycle( e, T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Edge( T, 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3429000"/>
            <a:ext cx="2438640" cy="703800"/>
          </a:xfrm>
          <a:prstGeom prst="leftArrowCallout">
            <a:avLst>
              <a:gd name="adj1" fmla="val 16520"/>
              <a:gd name="adj2" fmla="val 31741"/>
              <a:gd name="adj3" fmla="val 56626"/>
              <a:gd name="adj4" fmla="val 74419"/>
            </a:avLst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d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heap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343400"/>
            <a:ext cx="2587680" cy="703800"/>
          </a:xfrm>
          <a:prstGeom prst="leftArrowCallout">
            <a:avLst>
              <a:gd name="adj1" fmla="val 20002"/>
              <a:gd name="adj2" fmla="val 26088"/>
              <a:gd name="adj3" fmla="val 64734"/>
              <a:gd name="adj4" fmla="val 73076"/>
            </a:avLst>
          </a:pr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Extract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heap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66880" y="4876920"/>
            <a:ext cx="3200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1000" y="1752480"/>
            <a:ext cx="8105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MinimumSpanningTree( Graph g, int n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double **costs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est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eue 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ge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= ConsForest( g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 = ConsEdgeQueue( g, costs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(i=0;i&lt;(n-1);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ExtractCheapestEdge( q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 !Cycle( e, T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Edge( T, 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451400"/>
            <a:ext cx="2587680" cy="1008720"/>
          </a:xfrm>
          <a:prstGeom prst="leftArrowCallout">
            <a:avLst>
              <a:gd name="adj1" fmla="val 20002"/>
              <a:gd name="adj2" fmla="val 26088"/>
              <a:gd name="adj3" fmla="val 45166"/>
              <a:gd name="adj4" fmla="val 73076"/>
            </a:avLst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t how do we detec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yc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det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ses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ion-find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structur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 which we need to understand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artition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f a se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set of sets of elements of a se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element belongs to one of the sub-s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lement belongs to more than one sub-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Formally: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948600" indent="-189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,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   =  { 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ition(S)  =   {  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},   where 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 {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,  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, k   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760" y="4267080"/>
            <a:ext cx="237384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ets o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9280" y="4800600"/>
            <a:ext cx="347256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long to one of 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7600" y="5334120"/>
            <a:ext cx="3063960" cy="74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e of 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common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5880" y="6172200"/>
            <a:ext cx="3232080" cy="44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union of all 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elements of each set of a partition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related by an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quivalence re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quivalence relat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eflexiv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ransitiv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ymmetric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sets of a partition ar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quivalence class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lement of the set is related to every other el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2438280"/>
            <a:ext cx="6973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 ~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0600" y="2895480"/>
            <a:ext cx="31327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x ~ y and y ~ z, then x ~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2760" y="3352680"/>
            <a:ext cx="21070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x ~ y, then y ~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art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the MST algorithm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connected vertices form equivalence class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ng connected” is the equivalence re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itially, each vertex is in a class by itself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 edges are added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more vertices become related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nd the equivalence classes grow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Until finally all the vertices are in a single equivalence clas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present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ne vertex in each class may be chosen as the representative of that clas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We arrange the vertices in lists that lead to the representativ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ion-f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deter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50532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ey Point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ecture 19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8504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ptimal Binary Searc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Used when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items are requested more often than oth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for each item is know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Minimises cost of </a:t>
            </a:r>
            <a:r>
              <a:rPr b="1" i="1" lang="en-US" sz="1800" spc="-1" strike="noStrike">
                <a:solidFill>
                  <a:srgbClr val="063de8"/>
                </a:solidFill>
                <a:latin typeface="Arial"/>
              </a:rPr>
              <a:t>all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search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401040" indent="-154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Build the search tree by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ing all trees of size 2, then 3, 4, .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r tree costs computed from smaller tree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3480" indent="-12312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ub-trees of optimal trees are optimal trees!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optimal search tree by saving root of each optimal sub-tree and tracing 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me   /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ycle deter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f two vertices have the same representative,</a:t>
            </a:r>
            <a:br>
              <a:rPr sz="2000"/>
            </a:b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y’re already connected and adding a further connection between them is pointles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ocedure: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end-point of the edge that you’re going t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the lists and find its represent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two representatives are equal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the edge will form a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krusk0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5162760" cy="2219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17400" y="4419720"/>
            <a:ext cx="25016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ertex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wn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3280" y="1219320"/>
            <a:ext cx="2739600" cy="703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vertices 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element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08960" y="4191120"/>
            <a:ext cx="247284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3280" y="1219320"/>
            <a:ext cx="2739600" cy="703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vertices ar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element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5680" y="3809880"/>
            <a:ext cx="2795760" cy="106956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it to the fore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element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krusk1" descr=""/>
          <p:cNvPicPr/>
          <p:nvPr/>
        </p:nvPicPr>
        <p:blipFill>
          <a:blip r:embed="rId1"/>
          <a:stretch/>
        </p:blipFill>
        <p:spPr>
          <a:xfrm>
            <a:off x="838080" y="2158920"/>
            <a:ext cx="4343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28080" y="1219320"/>
            <a:ext cx="247284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760" y="4191120"/>
            <a:ext cx="2795760" cy="106956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it to the fore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element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krusk1" descr=""/>
          <p:cNvPicPr/>
          <p:nvPr/>
        </p:nvPicPr>
        <p:blipFill>
          <a:blip r:embed="rId1"/>
          <a:stretch/>
        </p:blipFill>
        <p:spPr>
          <a:xfrm>
            <a:off x="838080" y="2158920"/>
            <a:ext cx="4343400" cy="195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90400" y="4143240"/>
            <a:ext cx="2091600" cy="76464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3886200"/>
            <a:ext cx="762120" cy="38088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55600" y="99072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48000" y="1600200"/>
            <a:ext cx="2678760" cy="106956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it to the fore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element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63920" y="3533760"/>
            <a:ext cx="2075040" cy="76464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krusk2" descr=""/>
          <p:cNvPicPr/>
          <p:nvPr/>
        </p:nvPicPr>
        <p:blipFill>
          <a:blip r:embed="rId1"/>
          <a:stretch/>
        </p:blipFill>
        <p:spPr>
          <a:xfrm>
            <a:off x="990720" y="2101680"/>
            <a:ext cx="3962160" cy="1784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352680" y="2514600"/>
            <a:ext cx="1905120" cy="114300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9480" y="4572000"/>
            <a:ext cx="4947840" cy="703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forest now has 2 two-element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5 single vertex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55600" y="99072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97600" y="1600200"/>
            <a:ext cx="2779200" cy="106956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it to the fore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element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080" y="3533760"/>
            <a:ext cx="2091600" cy="76464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9480" y="4572000"/>
            <a:ext cx="4947840" cy="703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forest now has 3 two-element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4 single vertex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krusk4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343400" cy="2349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00200" y="2438280"/>
            <a:ext cx="3657600" cy="121932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55600" y="99072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26600" y="1600200"/>
            <a:ext cx="2513880" cy="1008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it to the fore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rg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element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2000" y="3505320"/>
            <a:ext cx="2867400" cy="70380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ose the rep of o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its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2438280"/>
            <a:ext cx="3657600" cy="121932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krusk5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815000" cy="2166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05320" y="2666880"/>
            <a:ext cx="2133360" cy="114300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55600" y="114300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29200" y="1857240"/>
            <a:ext cx="218772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69880" y="3352680"/>
            <a:ext cx="2584080" cy="459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-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s a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666880"/>
            <a:ext cx="2133360" cy="114300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krusk6" descr=""/>
          <p:cNvPicPr/>
          <p:nvPr/>
        </p:nvPicPr>
        <p:blipFill>
          <a:blip r:embed="rId1"/>
          <a:stretch/>
        </p:blipFill>
        <p:spPr>
          <a:xfrm>
            <a:off x="685800" y="2093760"/>
            <a:ext cx="5272200" cy="2554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936040" y="2543040"/>
            <a:ext cx="266652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s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73680" y="4800600"/>
            <a:ext cx="3007800" cy="398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clearly not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55600" y="114300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05520" y="1857240"/>
            <a:ext cx="217116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71400" y="3352680"/>
            <a:ext cx="2386080" cy="76464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oins 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es, so we ad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04800" y="2543040"/>
            <a:ext cx="220428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64040" y="4600440"/>
            <a:ext cx="4352040" cy="459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 and kee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the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krusk7" descr=""/>
          <p:cNvPicPr/>
          <p:nvPr/>
        </p:nvPicPr>
        <p:blipFill>
          <a:blip r:embed="rId1"/>
          <a:stretch/>
        </p:blipFill>
        <p:spPr>
          <a:xfrm>
            <a:off x="533520" y="1987560"/>
            <a:ext cx="4647960" cy="2093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124080" y="2590920"/>
            <a:ext cx="990720" cy="205740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03320" y="99072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-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97240" y="1857240"/>
            <a:ext cx="218772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38200" y="3352680"/>
            <a:ext cx="2653920" cy="76464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-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s a cyc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we skip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56640" y="2543040"/>
            <a:ext cx="210240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krusk8" descr=""/>
          <p:cNvPicPr/>
          <p:nvPr/>
        </p:nvPicPr>
        <p:blipFill>
          <a:blip r:embed="rId1"/>
          <a:stretch/>
        </p:blipFill>
        <p:spPr>
          <a:xfrm>
            <a:off x="990720" y="1968480"/>
            <a:ext cx="4267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Key Point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Lecture 19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4000"/>
          </a:bodyPr>
          <a:p>
            <a:pPr marL="185040" indent="-18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Problems using Dynamic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atrix chain multi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Find optimal parenthesisation of a matrix product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ressions within parenthe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43480" indent="-12312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optimal parenthesisations themselv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ptimal sub-stru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racteristic of dynamic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7480" indent="-123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 to optimal binary search tre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Longest common subsequ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Longest string of symbols found in each of two sequenc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marL="185040" indent="-185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ptimal triang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Least cost division of a polygon into triangl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401040" indent="-1540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aps to matrix chain multiplication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401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03320" y="99072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krusk9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638680" cy="2538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523880" y="2209680"/>
            <a:ext cx="457200" cy="457200"/>
          </a:xfrm>
          <a:prstGeom prst="ellipse">
            <a:avLst/>
          </a:prstGeom>
          <a:noFill/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54480" y="2009880"/>
            <a:ext cx="218772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03560" y="3886200"/>
            <a:ext cx="2893320" cy="76464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joins two tre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e ad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63480" y="2695680"/>
            <a:ext cx="220320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 in operation 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03320" y="990720"/>
            <a:ext cx="3067200" cy="76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xt cheapest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0040" y="1371600"/>
            <a:ext cx="282960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-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s a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9800" y="4572000"/>
            <a:ext cx="4504320" cy="398880"/>
          </a:xfrm>
          <a:prstGeom prst="rect">
            <a:avLst/>
          </a:prstGeom>
          <a:solidFill>
            <a:srgbClr val="99ccff"/>
          </a:solidFill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 and we now have a spanning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4800" y="2590920"/>
            <a:ext cx="2532240" cy="459720"/>
          </a:xfrm>
          <a:prstGeom prst="rect">
            <a:avLst/>
          </a:prstGeom>
          <a:solidFill>
            <a:srgbClr val="99ff99"/>
          </a:solidFill>
          <a:ln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ad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krusk10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5238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eedy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 no stage did we attempt to “look ahea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imply made the naïve cho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hoose the cheapest edge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T is an example of 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reedy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dy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ake the “best” choice at each step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on’t look ahead and try alternativ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Don’t work in many situation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y playing chess with a greedy approach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Are often difficult to prove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naive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f we made this other (more expensive) choice now and later on ..... ?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roving Greedy Algorithm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T Pro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Proof by contradiction” is usually the best approach!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te tha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edge creating a cycle is not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Symbol" charset="2"/>
              <a:buChar char="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dge must join two sub-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ppose that the next cheapest edge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would join tre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uppose that instead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we 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- a more expensive edge, which jo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But we still need to jo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or some other tree to whi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connected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e cheapest way to do this is to ad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 we should have add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stead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ving that the greedy approach is correct for MST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MS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ime complexity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itialise fores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 |V|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rt edge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E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edge for cycl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V|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edges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V|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tal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 |V|+|E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+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 = O(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V| 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we would class MST a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graph wit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pper bou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improvements on this are known 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rim’s Algorith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b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E|+|V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bonacci hea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 better variants are known for restricted case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parse 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V|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800600" y="4724280"/>
            <a:ext cx="1752480" cy="7621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MST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Time complexity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itialise fores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O( |V|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ort edge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E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edge for cycle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V|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edges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V|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otal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 |V|+|E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+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 = O(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 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V| 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we would class MST a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n 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graph wit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 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n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upper bou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improvements on thi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re know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rim’s Algorith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be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( |E|+|V|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V|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bonacci hea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 better variants are known for restricted case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ch a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parse grap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E|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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|V|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84520" y="1600200"/>
            <a:ext cx="5773680" cy="2969280"/>
          </a:xfrm>
          <a:prstGeom prst="downArrowCallout">
            <a:avLst>
              <a:gd name="adj1" fmla="val 23678"/>
              <a:gd name="adj2" fmla="val 31570"/>
              <a:gd name="adj3" fmla="val 21856"/>
              <a:gd name="adj4" fmla="val 52435"/>
            </a:avLst>
          </a:prstGeom>
          <a:solidFill>
            <a:srgbClr val="ffff00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’s the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“professionals read  textbooks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e recurring ag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-236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et of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ertices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(nodes) and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dges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connecting them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512640" indent="-19692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Writ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 = ( V, E )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512640" indent="-196920">
              <a:spcBef>
                <a:spcPts val="45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63de8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801720" indent="-157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et of vertices: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= {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15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dge connects two vertices: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= (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157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set of edges: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  = {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,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rusk1" descr=""/>
          <p:cNvPicPr/>
          <p:nvPr/>
        </p:nvPicPr>
        <p:blipFill>
          <a:blip r:embed="rId1"/>
          <a:stretch/>
        </p:blipFill>
        <p:spPr>
          <a:xfrm>
            <a:off x="838080" y="4022640"/>
            <a:ext cx="4267440" cy="1920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3600" y="4343400"/>
            <a:ext cx="304920" cy="3049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61280" y="427824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54880" y="49528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path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of length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is a sequence of connected vertices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= &lt;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...,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wher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       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3" name="krusk5" descr=""/>
          <p:cNvPicPr/>
          <p:nvPr/>
        </p:nvPicPr>
        <p:blipFill>
          <a:blip r:embed="rId1"/>
          <a:stretch/>
        </p:blipFill>
        <p:spPr>
          <a:xfrm>
            <a:off x="685800" y="2722680"/>
            <a:ext cx="4952880" cy="2230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85720" y="2666880"/>
            <a:ext cx="211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i, c, f, g, h &gt;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of length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4038480"/>
            <a:ext cx="211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a, b &gt;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of leng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graph contains no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ycles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f there is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no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path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 = &lt;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...,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63de8"/>
                </a:solidFill>
                <a:latin typeface="Arial"/>
              </a:rPr>
              <a:t>such that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                                                         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58" name="krusk6" descr=""/>
          <p:cNvPicPr/>
          <p:nvPr/>
        </p:nvPicPr>
        <p:blipFill>
          <a:blip r:embed="rId1"/>
          <a:stretch/>
        </p:blipFill>
        <p:spPr>
          <a:xfrm>
            <a:off x="1066680" y="2527200"/>
            <a:ext cx="3748320" cy="1816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28360" y="2743200"/>
            <a:ext cx="201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i, c, f, g, i &gt;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ning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panning tree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a set of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V|-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edges that connect all the vertices of a graph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krusk10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4357440" cy="196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486400" y="2895480"/>
            <a:ext cx="2966760" cy="1008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d path conn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verti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it’s a spanning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Definitions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um Spanning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Generally there is more than one spanning tre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If a co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is associated with edge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63de8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then th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minimum spanning tree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is the set of ed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spa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such that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1092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p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63de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is a minim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            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66" name="krusk10" descr=""/>
          <p:cNvPicPr/>
          <p:nvPr/>
        </p:nvPicPr>
        <p:blipFill>
          <a:blip r:embed="rId1"/>
          <a:stretch/>
        </p:blipFill>
        <p:spPr>
          <a:xfrm>
            <a:off x="990720" y="3524400"/>
            <a:ext cx="4357440" cy="1962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636880" y="4784760"/>
            <a:ext cx="24422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d tree is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07920" y="3505320"/>
            <a:ext cx="3486240" cy="1008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ST’s can be formed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2 with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ace 4 with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raphs - </a:t>
            </a: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Kruskal’s Algorithm</a:t>
            </a:r>
            <a:endParaRPr b="1" i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the minimum spanning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ut all the vertices into single node trees by themselves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Put all the edges in a priority queu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peat until we’ve constructed a spanning tree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  <a:p>
            <a:pPr lvl="2" marL="894600" indent="-17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xtract cheapest ed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4600" indent="-17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forms a cycle, ignore i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 add it to the forest of tre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t will join two trees into a larger tre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Arial"/>
              </a:rPr>
              <a:t>Return the spanning tree         </a:t>
            </a:r>
            <a:endParaRPr b="1" lang="en-US" sz="18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00:58:10Z</dcterms:created>
  <dc:creator>jm</dc:creator>
  <dc:description/>
  <dc:language>en-US</dc:language>
  <cp:lastModifiedBy>jm</cp:lastModifiedBy>
  <cp:lastPrinted>1998-09-08T02:08:08Z</cp:lastPrinted>
  <dcterms:modified xsi:type="dcterms:W3CDTF">1998-09-08T02:24:30Z</dcterms:modified>
  <cp:revision>26</cp:revision>
  <dc:subject/>
  <dc:title>Data Structures and Algorithms</dc:title>
</cp:coreProperties>
</file>