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d-Black and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Other Dynamically Balanced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VL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ata Structur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L trees can be implemented with a flag to indicate the balance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a new node (as any binary tre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up the tree re-balancing as necessary to resto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VL proper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828800"/>
            <a:ext cx="749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enum { LeftHeavy, Balanced, RightHeavy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BalanceFa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AVL_nod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BalanceFactor b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void *item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truct AVL_node *left, *righ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d-Black or AVL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VL :  two passes through the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 to insert the 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 to re-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d-Black : two passes through the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 to insert the 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 to re-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d-Black is more popular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 cautionary tal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you read Cormen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et al,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’s no reason to prefer a red-black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However,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n Weiss’ tex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 A Weis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lgorithms, Data Structures and Problem Solving with C+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Addison-Wesley, 19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you find that you can balance a red-black tree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n one pas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ing red-black more efficient than AVL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f coded properly!!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 cautionary tal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you read Cormen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et al,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’s no reason to prefer a red-black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However,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n Weiss’ tex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 A Weis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lgorithms, Data Structures and Problem Solving with C+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Addison-Wesley, 19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you find that you can balance a red-black tree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n one pas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ing red-black more efficient than AVL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if coded properly!!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7120" y="4800600"/>
            <a:ext cx="573948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al: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You need to read the litera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 cautionary tal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in one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s you proceed down the tree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you find a node with two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hildren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ake it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nd the childr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is doesn’t alter the number of black nodes in any path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the parent of this node wa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rotation is needed 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ay need to be a single or a double rot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ng 4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b_tree_ins1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57480" y="1943280"/>
            <a:ext cx="1219320" cy="22860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1320" y="1523880"/>
            <a:ext cx="230760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ver two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ldre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76800" y="1943280"/>
            <a:ext cx="609480" cy="53316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rb_tree_ins2" descr=""/>
          <p:cNvPicPr/>
          <p:nvPr/>
        </p:nvPicPr>
        <p:blipFill>
          <a:blip r:embed="rId2"/>
          <a:stretch/>
        </p:blipFill>
        <p:spPr>
          <a:xfrm>
            <a:off x="4419720" y="316224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26720" y="3276720"/>
            <a:ext cx="280944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ap colours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038480"/>
            <a:ext cx="1371600" cy="121932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819520"/>
            <a:ext cx="609480" cy="129528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666880"/>
            <a:ext cx="685800" cy="609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343400" y="144792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75248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191120" y="2438280"/>
            <a:ext cx="45720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4876920"/>
            <a:ext cx="6858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ng 4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b_tree_ins2" descr=""/>
          <p:cNvPicPr/>
          <p:nvPr/>
        </p:nvPicPr>
        <p:blipFill>
          <a:blip r:embed="rId1"/>
          <a:stretch/>
        </p:blipFill>
        <p:spPr>
          <a:xfrm>
            <a:off x="3733920" y="838080"/>
            <a:ext cx="3724200" cy="2248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32760" y="1523880"/>
            <a:ext cx="2525040" cy="1117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 sequ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o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-black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143000"/>
            <a:ext cx="1219320" cy="121932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05320" y="1752480"/>
            <a:ext cx="761760" cy="763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rb_tree_ins4" descr=""/>
          <p:cNvPicPr/>
          <p:nvPr/>
        </p:nvPicPr>
        <p:blipFill>
          <a:blip r:embed="rId2"/>
          <a:stretch/>
        </p:blipFill>
        <p:spPr>
          <a:xfrm>
            <a:off x="4886280" y="300996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29600" y="3767040"/>
            <a:ext cx="101736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648320"/>
            <a:ext cx="6858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ng 4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rb_tree_ins4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724200" cy="2247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64480" y="2362320"/>
            <a:ext cx="101736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rb_tree_ins8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3314880" cy="16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05520" y="3048120"/>
            <a:ext cx="761760" cy="68580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685800" cy="609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4724280"/>
            <a:ext cx="685800" cy="609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6080" y="4483080"/>
            <a:ext cx="138312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th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alanced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Yet more variants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ally the same id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2-3 Tre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2-3-4 Tre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case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way trees ... coming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number of children per 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re complex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3-4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ap to red-black tre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Symbol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ossibly useful to understand red-black tre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2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L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rst dynamically balanced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eight within 44% of optimu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balanced with rota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(log n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efficient than properly coded red-black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3, 2-3-4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-way trees - Yet more varia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2-3-4 trees map to red-black trees 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1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60920" indent="-16092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-Black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A complex algorithm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349200" indent="-1342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Gives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)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addition, deletion and search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160920" indent="-160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engine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now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abou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lgorith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49200" indent="-1342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now when to use the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49200" indent="-1342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now performan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49200" indent="-1342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now where to find an implement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49200" indent="-1342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too clever to re-invent wheels 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546120" indent="-107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-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6120" indent="-107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y have more time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34040" indent="-1072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ailing, eating, drinking, 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734040" indent="-107280">
              <a:spcBef>
                <a:spcPts val="451"/>
              </a:spcBef>
              <a:buClr>
                <a:srgbClr val="063de8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ything else I should put here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                             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n_ary" descr=""/>
          <p:cNvPicPr/>
          <p:nvPr/>
        </p:nvPicPr>
        <p:blipFill>
          <a:blip r:embed="rId1"/>
          <a:stretch/>
        </p:blipFill>
        <p:spPr>
          <a:xfrm>
            <a:off x="857160" y="2133720"/>
            <a:ext cx="8591760" cy="1800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-way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two children per nod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depth of the tree to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way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eys per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ey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a binary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....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-way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you have to search throug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ys in each nod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your gain from having fewer level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uriosity onl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n_ary" descr=""/>
          <p:cNvPicPr/>
          <p:nvPr/>
        </p:nvPicPr>
        <p:blipFill>
          <a:blip r:embed="rId1"/>
          <a:stretch/>
        </p:blipFill>
        <p:spPr>
          <a:xfrm>
            <a:off x="857160" y="2771640"/>
            <a:ext cx="85917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-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leaves are on the sam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nodes except for the root and the leav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at least </a:t>
            </a:r>
            <a:r>
              <a:rPr b="1" i="1" lang="en-US" sz="1800" spc="-1" strike="noStrike">
                <a:solidFill>
                  <a:srgbClr val="063de8"/>
                </a:solidFill>
                <a:latin typeface="Times New Roman"/>
              </a:rPr>
              <a:t>m/2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children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at most </a:t>
            </a:r>
            <a:r>
              <a:rPr b="1" i="1" lang="en-US" sz="1800" spc="-1" strike="noStrike">
                <a:solidFill>
                  <a:srgbClr val="063de8"/>
                </a:solidFill>
                <a:latin typeface="Times New Roman"/>
              </a:rPr>
              <a:t>m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hildren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+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the keys in the nodes are dummi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nly the keys in the leaves point to “real” data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inking the leaves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scan the coll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or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passing through the higher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8960" y="1981080"/>
            <a:ext cx="277236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ode is at l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 full of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plus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4317280" cy="3009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+-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+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the keys in the nodes are dummi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nly the keys in the leaves point to “real” data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ata records kept in a separate area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Bplus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4317280" cy="30099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+-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Scanning in order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+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inking the leaves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scan the coll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or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passing through the higher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886200"/>
            <a:ext cx="99072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886200"/>
            <a:ext cx="99072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Bplus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4317280" cy="3009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+-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Us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-  Large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ading a disc block i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uch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slower than reading memory   ( ~ms 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v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~ns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ut each block of keys in one disc blo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2362320"/>
            <a:ext cx="2438280" cy="685800"/>
          </a:xfrm>
          <a:prstGeom prst="rect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200400"/>
            <a:ext cx="2209680" cy="609480"/>
          </a:xfrm>
          <a:prstGeom prst="rect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3200400"/>
            <a:ext cx="2209680" cy="609480"/>
          </a:xfrm>
          <a:prstGeom prst="rect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962520"/>
            <a:ext cx="2514600" cy="609480"/>
          </a:xfrm>
          <a:prstGeom prst="rect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4600" y="2373480"/>
            <a:ext cx="1861560" cy="703800"/>
          </a:xfrm>
          <a:prstGeom prst="rect">
            <a:avLst/>
          </a:prstGeom>
          <a:noFill/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Physical dis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2590920"/>
            <a:ext cx="1523880" cy="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819520"/>
            <a:ext cx="1676160" cy="38088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066680" y="3124080"/>
            <a:ext cx="152640" cy="83844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124080"/>
            <a:ext cx="228600" cy="15264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-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-tree property : block is at least half-full of key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sertion into block with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key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overfl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e one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 parent if necess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root is split, tree becomes one level dee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-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sert 9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eaf node overflows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lit 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romote middle (8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oot overflows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lit 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romote middle (6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ew root node forme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eight increased by 1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tree_ins" descr=""/>
          <p:cNvPicPr/>
          <p:nvPr/>
        </p:nvPicPr>
        <p:blipFill>
          <a:blip r:embed="rId1"/>
          <a:stretch/>
        </p:blipFill>
        <p:spPr>
          <a:xfrm>
            <a:off x="4533840" y="514440"/>
            <a:ext cx="2933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-trees on disc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512 - 8k byt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100s of key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binary search within the blo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atched to hardwar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ion simi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 merge blocks to maintain B-tree property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(at least half full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VL and other balanced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VL Tre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rst balanced tree algorith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iscoverers: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elson-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lskii an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di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inary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eight of left and right-subtrees differ by at most 1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ubtrees are AVL tre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4" name="AVL1" descr=""/>
          <p:cNvPicPr/>
          <p:nvPr/>
        </p:nvPicPr>
        <p:blipFill>
          <a:blip r:embed="rId1"/>
          <a:stretch/>
        </p:blipFill>
        <p:spPr>
          <a:xfrm>
            <a:off x="1905120" y="3714840"/>
            <a:ext cx="2114280" cy="1771560"/>
          </a:xfrm>
          <a:prstGeom prst="rect">
            <a:avLst/>
          </a:prstGeom>
          <a:ln w="0">
            <a:noFill/>
          </a:ln>
        </p:spPr>
      </p:pic>
      <p:pic>
        <p:nvPicPr>
          <p:cNvPr id="45" name="AVL1a" descr=""/>
          <p:cNvPicPr/>
          <p:nvPr/>
        </p:nvPicPr>
        <p:blipFill>
          <a:blip r:embed="rId2"/>
          <a:stretch/>
        </p:blipFill>
        <p:spPr>
          <a:xfrm>
            <a:off x="4562640" y="3324240"/>
            <a:ext cx="2295360" cy="2238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95240" y="3943440"/>
            <a:ext cx="156708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440" y="4724280"/>
            <a:ext cx="156708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552720" y="4648320"/>
            <a:ext cx="121932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VL 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Heigh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140400" indent="-14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 AVL 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has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at leas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h+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nod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40400" indent="-14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be the size of the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smalles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VL 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learl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so,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-1170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minimum height tree must be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mposed of min height trees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iffering in height by at most 1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-1170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y induction 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476280" indent="-93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h+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2743200"/>
            <a:ext cx="304920" cy="3049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2200" y="2743200"/>
            <a:ext cx="609120" cy="837720"/>
            <a:chOff x="6172200" y="2743200"/>
            <a:chExt cx="609120" cy="837720"/>
          </a:xfrm>
        </p:grpSpPr>
        <p:sp>
          <p:nvSpPr>
            <p:cNvPr id="53" name=""/>
            <p:cNvSpPr/>
            <p:nvPr/>
          </p:nvSpPr>
          <p:spPr>
            <a:xfrm flipH="1">
              <a:off x="6324120" y="2895480"/>
              <a:ext cx="304200" cy="5328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76760" y="2743200"/>
              <a:ext cx="304560" cy="3045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72200" y="3276360"/>
              <a:ext cx="304560" cy="3045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AVL_bal" descr=""/>
          <p:cNvPicPr/>
          <p:nvPr/>
        </p:nvPicPr>
        <p:blipFill>
          <a:blip r:embed="rId1"/>
          <a:stretch/>
        </p:blipFill>
        <p:spPr>
          <a:xfrm>
            <a:off x="5648400" y="3733920"/>
            <a:ext cx="25812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2880" y="3429000"/>
            <a:ext cx="289584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VL 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Heigh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for larg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,   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c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h+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1  =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b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     or        h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O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VL 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Heigh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for larg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,   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393480" indent="-151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c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393480" indent="-151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h+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1  =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b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     or        h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O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case, we can s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-151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n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28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52120" y="4114800"/>
            <a:ext cx="3243600" cy="84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o worse than 44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than the opt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4343400"/>
            <a:ext cx="6858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VL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balanc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leads to non-AVL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4 cas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1 and 4 are mirror imag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2 and 3 are mirror imag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6" name="AVL_rebal" descr=""/>
          <p:cNvPicPr/>
          <p:nvPr/>
        </p:nvPicPr>
        <p:blipFill>
          <a:blip r:embed="rId1"/>
          <a:stretch/>
        </p:blipFill>
        <p:spPr>
          <a:xfrm>
            <a:off x="1204920" y="1905120"/>
            <a:ext cx="6734160" cy="1838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47920" y="373392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73392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73392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73392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70560" y="3733920"/>
            <a:ext cx="455760" cy="5367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22560" y="3733920"/>
            <a:ext cx="455760" cy="5364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99080" y="3733920"/>
            <a:ext cx="455760" cy="5364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760" y="3733920"/>
            <a:ext cx="455760" cy="5367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VL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balanc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 solved by r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se 4 is the mirror image rot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77" name="AVL_case1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1432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AVL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balanc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2 needs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se 3 is the mirror image rot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80" name="AVL_case2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315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0:58:10Z</dcterms:created>
  <dc:creator>jm</dc:creator>
  <dc:description/>
  <dc:language>en-US</dc:language>
  <cp:lastModifiedBy>jm</cp:lastModifiedBy>
  <cp:lastPrinted>1998-08-23T11:54:38Z</cp:lastPrinted>
  <dcterms:modified xsi:type="dcterms:W3CDTF">1999-08-23T03:53:22Z</dcterms:modified>
  <cp:revision>32</cp:revision>
  <dc:subject/>
  <dc:title>Data Structures and Algorithms</dc:title>
</cp:coreProperties>
</file>