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2743200"/>
            <a:ext cx="7696440" cy="2514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42900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19112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ubble Sort -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Bubble sort for integer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SWAP(a,b)   { int t; t=a; a=b; b=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ubble( int a[], int n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i&lt;n;i++) { /* n passes thru the array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rom start to the end of unsorted par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1;j&lt;(n-i);j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adjacent items out of order, swap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a[j-1]&gt;a[j] ) SWAP(a[j-1],a[j]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81480"/>
            <a:ext cx="4659120" cy="5094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oop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2743200"/>
            <a:ext cx="7696440" cy="2514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42900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ubble Sort -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Bubble sort for integer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SWAP(a,b)   { int t; t=a; a=b; b=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ubble( int a[], int n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i&lt;n;i++) { /* n passes thru the array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rom start to the end of unsorted par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1;j&lt;(n-i);j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adjacent items out of order, swap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a[j-1]&gt;a[j] ) SWAP(a[j-1],a[j]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9560" y="2454120"/>
            <a:ext cx="6991560" cy="172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6080" y="32767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358128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20600" y="3124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6920" y="3276720"/>
            <a:ext cx="3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505320"/>
            <a:ext cx="3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35812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8040" y="4876920"/>
            <a:ext cx="342504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oop 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19160" y="3886200"/>
            <a:ext cx="152280" cy="990720"/>
          </a:xfrm>
          <a:prstGeom prst="line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657600"/>
            <a:ext cx="2362320" cy="1143000"/>
          </a:xfrm>
          <a:prstGeom prst="line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30160" y="4800600"/>
            <a:ext cx="3907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oop iteration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Simple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bble sort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ery simple c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lightly better than bubble sor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er compari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so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eapSort is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Where would you use bubble or insertion so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ple Sor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bble Sort or Insertio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Use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w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s small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imple code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mpensates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or low </a:t>
            </a:r>
            <a:br>
              <a:rPr sz="1800"/>
            </a:b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fficiency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733920" y="1600200"/>
          <a:ext cx="5186160" cy="33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600200"/>
                    <a:ext cx="518616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sor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scovered by C.A.R. Hoar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vide and Conqu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h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artition pha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v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work into ha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pha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qu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halve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iv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d the position for the pivot so that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lements to the left are l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lements to the right are gre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809880"/>
            <a:ext cx="7238880" cy="685800"/>
          </a:xfrm>
          <a:prstGeom prst="rect">
            <a:avLst/>
          </a:prstGeom>
          <a:noFill/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809880"/>
            <a:ext cx="914400" cy="685800"/>
          </a:xfrm>
          <a:prstGeom prst="rect">
            <a:avLst/>
          </a:prstGeom>
          <a:noFill/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2080" y="39243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39243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920" y="3924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q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pply the same algorithm to each half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2743200"/>
            <a:ext cx="3047760" cy="6858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5920" y="2743200"/>
            <a:ext cx="914400" cy="685800"/>
          </a:xfrm>
          <a:prstGeom prst="rect">
            <a:avLst/>
          </a:prstGeom>
          <a:noFill/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2096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22096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6760" y="2857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743200"/>
            <a:ext cx="3200400" cy="68580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743200"/>
            <a:ext cx="609480" cy="68580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28576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680" y="2857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85768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2743200"/>
            <a:ext cx="609480" cy="6858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20640" y="2857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5760" y="2857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9440" y="2857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4267080"/>
            <a:ext cx="5639040" cy="3049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4648320"/>
            <a:ext cx="5639040" cy="304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886200"/>
            <a:ext cx="647712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960" y="1600200"/>
            <a:ext cx="7313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icksort( void *a, int low, int hig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pivo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Termination condition!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high &gt; low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 = partition( a, low, high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icksort( a, low, pivot-1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icksort( a, pivot+1, high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17600" y="3733920"/>
            <a:ext cx="1144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320" y="4495680"/>
            <a:ext cx="1481760" cy="509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191120"/>
            <a:ext cx="731520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63de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0560" y="985680"/>
            <a:ext cx="649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1828800"/>
            <a:ext cx="30481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990720"/>
            <a:ext cx="10666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0560" y="985680"/>
            <a:ext cx="649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1360" y="533520"/>
            <a:ext cx="2414880" cy="172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keep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09280" y="441972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0940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952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964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0976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0988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1000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1012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09880" y="44197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95288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880" y="55627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95288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4120" y="55627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16280" y="2401920"/>
            <a:ext cx="4459320" cy="914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item will do as the pivo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the leftmost 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1"/>
            <a:endCxn id="166" idx="0"/>
          </p:cNvCxnSpPr>
          <p:nvPr/>
        </p:nvCxnSpPr>
        <p:spPr>
          <a:xfrm flipV="1" rot="10800000">
            <a:off x="1982160" y="2851560"/>
            <a:ext cx="1740600" cy="153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 players all know how to sort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irst card is already sorte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With all the rest,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38680" indent="-223920">
              <a:spcBef>
                <a:spcPts val="451"/>
              </a:spcBef>
              <a:buClr>
                <a:srgbClr val="0000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back from the end until you find the first card larger than the new on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8680" indent="-223920">
              <a:spcBef>
                <a:spcPts val="451"/>
              </a:spcBef>
              <a:buClr>
                <a:srgbClr val="fc0128"/>
              </a:buClr>
              <a:buFont typeface="Monotype Sorts" charset="2"/>
              <a:buChar char="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ove all the lower ones up one slo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8680" indent="-223920">
              <a:spcBef>
                <a:spcPts val="451"/>
              </a:spcBef>
              <a:buClr>
                <a:srgbClr val="063de8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nsert 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791320" y="3962520"/>
            <a:ext cx="1218960" cy="1074960"/>
            <a:chOff x="5791320" y="3962520"/>
            <a:chExt cx="1218960" cy="1074960"/>
          </a:xfrm>
        </p:grpSpPr>
        <p:sp>
          <p:nvSpPr>
            <p:cNvPr id="43" name=""/>
            <p:cNvSpPr/>
            <p:nvPr/>
          </p:nvSpPr>
          <p:spPr>
            <a:xfrm>
              <a:off x="6400800" y="3962520"/>
              <a:ext cx="609480" cy="107496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1074960"/>
                <a:gd name="textAreaBottom" fmla="*/ 1045440 h 1074960"/>
              </a:gdLst>
              <a:ahLst/>
              <a:rect l="textAreaLeft" t="textAreaTop" r="textAreaRight" b="textAreaBottom"/>
              <a:pathLst>
                <a:path w="21600" h="38087">
                  <a:moveTo>
                    <a:pt x="3600" y="0"/>
                  </a:moveTo>
                  <a:arcTo wR="3600" hR="3600" stAng="16200000" swAng="-5400000"/>
                  <a:lnTo>
                    <a:pt x="0" y="34487"/>
                  </a:lnTo>
                  <a:arcTo wR="3600" hR="3600" stAng="10800000" swAng="-5400000"/>
                  <a:lnTo>
                    <a:pt x="18000" y="38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91320" y="3962520"/>
              <a:ext cx="609480" cy="107496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1074960"/>
                <a:gd name="textAreaBottom" fmla="*/ 1045440 h 1074960"/>
              </a:gdLst>
              <a:ahLst/>
              <a:rect l="textAreaLeft" t="textAreaTop" r="textAreaRight" b="textAreaBottom"/>
              <a:pathLst>
                <a:path w="21600" h="38087">
                  <a:moveTo>
                    <a:pt x="3600" y="0"/>
                  </a:moveTo>
                  <a:arcTo wR="3600" hR="3600" stAng="16200000" swAng="-5400000"/>
                  <a:lnTo>
                    <a:pt x="0" y="34487"/>
                  </a:lnTo>
                  <a:arcTo wR="3600" hR="3600" stAng="10800000" swAng="-5400000"/>
                  <a:lnTo>
                    <a:pt x="18000" y="38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Monotype Sorts"/>
                  <a:ea typeface="Monotype Sorts"/>
                </a:rPr>
                <a:t>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7467480" y="3962520"/>
            <a:ext cx="609840" cy="107496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64">
                <a:moveTo>
                  <a:pt x="3600" y="0"/>
                </a:moveTo>
                <a:arcTo wR="3600" hR="3600" stAng="16200000" swAng="-5400000"/>
                <a:lnTo>
                  <a:pt x="0" y="34464"/>
                </a:lnTo>
                <a:arcTo wR="3600" hR="3600" stAng="10800000" swAng="-5400000"/>
                <a:lnTo>
                  <a:pt x="18000" y="38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0"/>
            <a:endCxn id="43" idx="0"/>
          </p:cNvCxnSpPr>
          <p:nvPr/>
        </p:nvCxnSpPr>
        <p:spPr>
          <a:xfrm rot="5400000">
            <a:off x="7237440" y="3410640"/>
            <a:ext cx="2160" cy="106740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371600" y="3962520"/>
            <a:ext cx="609480" cy="1074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87">
                <a:moveTo>
                  <a:pt x="3600" y="0"/>
                </a:moveTo>
                <a:arcTo wR="3600" hR="3600" stAng="16200000" swAng="-5400000"/>
                <a:lnTo>
                  <a:pt x="0" y="34487"/>
                </a:lnTo>
                <a:arcTo wR="3600" hR="3600" stAng="10800000" swAng="-5400000"/>
                <a:lnTo>
                  <a:pt x="18000" y="3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09840" cy="107496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64">
                <a:moveTo>
                  <a:pt x="3600" y="0"/>
                </a:moveTo>
                <a:arcTo wR="3600" hR="3600" stAng="16200000" swAng="-5400000"/>
                <a:lnTo>
                  <a:pt x="0" y="34464"/>
                </a:lnTo>
                <a:arcTo wR="3600" hR="3600" stAng="10800000" swAng="-5400000"/>
                <a:lnTo>
                  <a:pt x="18000" y="38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962520"/>
            <a:ext cx="609480" cy="1074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87">
                <a:moveTo>
                  <a:pt x="3600" y="0"/>
                </a:moveTo>
                <a:arcTo wR="3600" hR="3600" stAng="16200000" swAng="-5400000"/>
                <a:lnTo>
                  <a:pt x="0" y="34487"/>
                </a:lnTo>
                <a:arcTo wR="3600" hR="3600" stAng="10800000" swAng="-5400000"/>
                <a:lnTo>
                  <a:pt x="18000" y="3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962520"/>
            <a:ext cx="609840" cy="107496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64">
                <a:moveTo>
                  <a:pt x="3600" y="0"/>
                </a:moveTo>
                <a:arcTo wR="3600" hR="3600" stAng="16200000" swAng="-5400000"/>
                <a:lnTo>
                  <a:pt x="0" y="34464"/>
                </a:lnTo>
                <a:arcTo wR="3600" hR="3600" stAng="10800000" swAng="-5400000"/>
                <a:lnTo>
                  <a:pt x="18000" y="38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962520"/>
            <a:ext cx="609480" cy="1074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87">
                <a:moveTo>
                  <a:pt x="3600" y="0"/>
                </a:moveTo>
                <a:arcTo wR="3600" hR="3600" stAng="16200000" swAng="-5400000"/>
                <a:lnTo>
                  <a:pt x="0" y="34487"/>
                </a:lnTo>
                <a:arcTo wR="3600" hR="3600" stAng="10800000" swAng="-5400000"/>
                <a:lnTo>
                  <a:pt x="18000" y="3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962520"/>
            <a:ext cx="609480" cy="1074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87">
                <a:moveTo>
                  <a:pt x="3600" y="0"/>
                </a:moveTo>
                <a:arcTo wR="3600" hR="3600" stAng="16200000" swAng="-5400000"/>
                <a:lnTo>
                  <a:pt x="0" y="34487"/>
                </a:lnTo>
                <a:arcTo wR="3600" hR="3600" stAng="10800000" swAng="-5400000"/>
                <a:lnTo>
                  <a:pt x="18000" y="3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H="1" rot="16200000">
            <a:off x="5713920" y="4190400"/>
            <a:ext cx="2520" cy="610560"/>
          </a:xfrm>
          <a:prstGeom prst="curvedConnector5">
            <a:avLst>
              <a:gd name="adj1" fmla="val -13200000"/>
              <a:gd name="adj2" fmla="val 49970"/>
              <a:gd name="adj3" fmla="val -132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6399720" y="4190400"/>
            <a:ext cx="2520" cy="610560"/>
          </a:xfrm>
          <a:prstGeom prst="curvedConnector5">
            <a:avLst>
              <a:gd name="adj1" fmla="val -13200000"/>
              <a:gd name="adj2" fmla="val 49970"/>
              <a:gd name="adj3" fmla="val -1320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05520" y="4694400"/>
            <a:ext cx="609480" cy="10749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074960"/>
              <a:gd name="textAreaBottom" fmla="*/ 1045440 h 1074960"/>
            </a:gdLst>
            <a:ahLst/>
            <a:rect l="textAreaLeft" t="textAreaTop" r="textAreaRight" b="textAreaBottom"/>
            <a:pathLst>
              <a:path w="21600" h="38087">
                <a:moveTo>
                  <a:pt x="3600" y="0"/>
                </a:moveTo>
                <a:arcTo wR="3600" hR="3600" stAng="16200000" swAng="-5400000"/>
                <a:lnTo>
                  <a:pt x="0" y="34487"/>
                </a:lnTo>
                <a:arcTo wR="3600" hR="3600" stAng="10800000" swAng="-5400000"/>
                <a:lnTo>
                  <a:pt x="18000" y="3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5" idx="2"/>
            <a:endCxn id="55" idx="3"/>
          </p:cNvCxnSpPr>
          <p:nvPr/>
        </p:nvCxnSpPr>
        <p:spPr>
          <a:xfrm rot="5400000">
            <a:off x="6670080" y="4141800"/>
            <a:ext cx="165600" cy="2039040"/>
          </a:xfrm>
          <a:prstGeom prst="curvedConnector2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3" idx="0"/>
            <a:endCxn id="44" idx="0"/>
          </p:cNvCxnSpPr>
          <p:nvPr/>
        </p:nvCxnSpPr>
        <p:spPr>
          <a:xfrm rot="5400000">
            <a:off x="6399360" y="3639240"/>
            <a:ext cx="2160" cy="610560"/>
          </a:xfrm>
          <a:prstGeom prst="curvedConnector5">
            <a:avLst>
              <a:gd name="adj1" fmla="val -13200000"/>
              <a:gd name="adj2" fmla="val 49970"/>
              <a:gd name="adj3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4" idx="0"/>
            <a:endCxn id="51" idx="0"/>
          </p:cNvCxnSpPr>
          <p:nvPr/>
        </p:nvCxnSpPr>
        <p:spPr>
          <a:xfrm rot="5400000">
            <a:off x="5408640" y="3258360"/>
            <a:ext cx="2160" cy="1372320"/>
          </a:xfrm>
          <a:prstGeom prst="curvedConnector5">
            <a:avLst>
              <a:gd name="adj1" fmla="val -13200000"/>
              <a:gd name="adj2" fmla="val 49986"/>
              <a:gd name="adj3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648120" y="33526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6720" y="3962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Monotype Sorts"/>
                <a:ea typeface="Monotype Sorts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00240" y="52578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Monotype Sorts"/>
                <a:ea typeface="Monotype Sorts"/>
              </a:rPr>
              <a:t>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2362320"/>
            <a:ext cx="304812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2057400"/>
            <a:ext cx="27432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0560" y="985680"/>
            <a:ext cx="6490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20080" y="2133720"/>
            <a:ext cx="390924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left and right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09280" y="409428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0940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0952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0964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0976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0988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1000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1012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09880" y="409428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462744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880" y="493236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462744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14120" y="493236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8640" y="495288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7240" y="325584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81080" y="3712680"/>
            <a:ext cx="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1520" y="325584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05720" y="3712680"/>
            <a:ext cx="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638680" y="3505320"/>
            <a:ext cx="114300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971800"/>
            <a:ext cx="114300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362320"/>
            <a:ext cx="35812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560" y="985680"/>
            <a:ext cx="6490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61000" y="1828800"/>
            <a:ext cx="325260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he ma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il they cros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73120" y="459252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324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7336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312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7324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7336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7348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7360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73720" y="459252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4920" y="4973760"/>
            <a:ext cx="0" cy="76176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360" y="52783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5520" y="4973760"/>
            <a:ext cx="0" cy="76176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7960" y="52783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92120" y="529920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40720" y="396252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43635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65000" y="396252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391520" y="43635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71440" y="4211640"/>
            <a:ext cx="121932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211640"/>
            <a:ext cx="121932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3352680"/>
            <a:ext cx="4419720" cy="381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352680"/>
            <a:ext cx="1143000" cy="38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9520"/>
            <a:ext cx="114300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2743200"/>
            <a:ext cx="4267080" cy="457200"/>
          </a:xfrm>
          <a:prstGeom prst="rect">
            <a:avLst/>
          </a:prstGeom>
          <a:solidFill>
            <a:srgbClr val="ff7c80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0560" y="985680"/>
            <a:ext cx="6490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38360" y="1905120"/>
            <a:ext cx="4102920" cy="9147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he left pointer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points to items &lt;=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47520" y="46274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4776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7520" y="4627440"/>
            <a:ext cx="546480" cy="459720"/>
          </a:xfrm>
          <a:prstGeom prst="rect">
            <a:avLst/>
          </a:prstGeom>
          <a:solidFill>
            <a:srgbClr val="99ff99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47760" y="4627440"/>
            <a:ext cx="546480" cy="459720"/>
          </a:xfrm>
          <a:prstGeom prst="rect">
            <a:avLst/>
          </a:prstGeom>
          <a:solidFill>
            <a:srgbClr val="ff9999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788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800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4812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760" y="53341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52360" y="53341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520" y="535464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90280" y="388620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994120" y="43434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32920" y="388620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13080" y="43434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393920" y="4114800"/>
            <a:ext cx="1218960" cy="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46600" y="4114800"/>
            <a:ext cx="914400" cy="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35080" y="3962520"/>
            <a:ext cx="1982880" cy="9147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righ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429000"/>
            <a:ext cx="56386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0560" y="990720"/>
            <a:ext cx="649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0840" y="1676520"/>
            <a:ext cx="460872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the two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wrong side of the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47520" y="46274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4776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7520" y="4627440"/>
            <a:ext cx="546480" cy="459720"/>
          </a:xfrm>
          <a:prstGeom prst="rect">
            <a:avLst/>
          </a:prstGeom>
          <a:solidFill>
            <a:srgbClr val="ff9999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47760" y="4627440"/>
            <a:ext cx="546480" cy="459720"/>
          </a:xfrm>
          <a:prstGeom prst="rect">
            <a:avLst/>
          </a:prstGeom>
          <a:solidFill>
            <a:srgbClr val="99ff99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788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800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4812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760" y="53341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52360" y="53341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320" y="495288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90280" y="388620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971800" y="43434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32920" y="388620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191120" y="43434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393920" y="4114800"/>
            <a:ext cx="1218960" cy="14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46600" y="4114800"/>
            <a:ext cx="914400" cy="14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65" idx="2"/>
            <a:endCxn id="267" idx="2"/>
          </p:cNvCxnSpPr>
          <p:nvPr/>
        </p:nvCxnSpPr>
        <p:spPr>
          <a:xfrm flipH="1" rot="16200000">
            <a:off x="3619080" y="4570920"/>
            <a:ext cx="2520" cy="1200600"/>
          </a:xfrm>
          <a:prstGeom prst="curvedConnector5">
            <a:avLst>
              <a:gd name="adj1" fmla="val 12600000"/>
              <a:gd name="adj2" fmla="val 50000"/>
              <a:gd name="adj3" fmla="val 12600000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2286000"/>
            <a:ext cx="38098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0560" y="985680"/>
            <a:ext cx="649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520" y="1371600"/>
            <a:ext cx="320508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swapped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47520" y="46274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4776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752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4764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4776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4788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4800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48120" y="46274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760" y="53341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0292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52360" y="53341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520" y="535464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30080" y="388620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581280" y="4266720"/>
            <a:ext cx="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3040" y="388620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48120" y="4266720"/>
            <a:ext cx="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38080" y="4343400"/>
            <a:ext cx="327672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0560" y="985680"/>
            <a:ext cx="649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9400" y="4343400"/>
            <a:ext cx="352512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ly, swap the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000" y="27986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412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1424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1436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1436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2004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1240" y="35053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6400" y="32004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18840" y="35053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360" y="352584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64880" y="2057400"/>
            <a:ext cx="63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124080" y="25146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9520" y="205740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14600" y="25146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"/>
          <p:cNvCxnSpPr>
            <a:stCxn id="309" idx="0"/>
            <a:endCxn id="312" idx="0"/>
          </p:cNvCxnSpPr>
          <p:nvPr/>
        </p:nvCxnSpPr>
        <p:spPr>
          <a:xfrm flipH="1" rot="16200000">
            <a:off x="1586520" y="1870560"/>
            <a:ext cx="2160" cy="1801080"/>
          </a:xfrm>
          <a:prstGeom prst="curvedConnector5">
            <a:avLst>
              <a:gd name="adj1" fmla="val -12600000"/>
              <a:gd name="adj2" fmla="val 50000"/>
              <a:gd name="adj3" fmla="val -12600000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080" y="4800600"/>
            <a:ext cx="21337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rti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0560" y="985680"/>
            <a:ext cx="649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artition( int *a, int low, int high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 pivot_ite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_item = a[low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vot = left = lo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ight = hig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left &lt; righ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left while item &l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left] &lt;= pivot_item ) lef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* Move right while item &gt; pivot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 a[right] &gt;= pivot_item ) right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left &lt; right ) SWAP(a,left,righ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right is final position for the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low] = a[righ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[right] = pivot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68160" y="4343400"/>
            <a:ext cx="306504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th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1412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1424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14360" y="27986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436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32004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1240" y="3505320"/>
            <a:ext cx="68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3200400"/>
            <a:ext cx="0" cy="7621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18840" y="3505320"/>
            <a:ext cx="823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24120" y="243828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438280" y="2437920"/>
            <a:ext cx="0" cy="38124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81800" y="2057400"/>
            <a:ext cx="85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3200400"/>
            <a:ext cx="990360" cy="11430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Conquer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440" y="1447920"/>
            <a:ext cx="95904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40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1412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300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14360" y="2798640"/>
            <a:ext cx="546480" cy="459720"/>
          </a:xfrm>
          <a:prstGeom prst="rect">
            <a:avLst/>
          </a:prstGeom>
          <a:solidFill>
            <a:srgbClr val="00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436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1448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14600" y="2798640"/>
            <a:ext cx="54648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24120" y="2438280"/>
            <a:ext cx="1791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v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514600" y="2057040"/>
            <a:ext cx="0" cy="6094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2514600"/>
            <a:ext cx="2057400" cy="32004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00400"/>
              <a:gd name="textAreaBottom" fmla="*/ 3099960 h 3200400"/>
            </a:gdLst>
            <a:ahLst/>
            <a:rect l="textAreaLeft" t="textAreaTop" r="textAreaRight" b="textAreaBottom"/>
            <a:pathLst>
              <a:path w="21600" h="33598">
                <a:moveTo>
                  <a:pt x="3600" y="0"/>
                </a:moveTo>
                <a:arcTo wR="3600" hR="3600" stAng="16200000" swAng="-5400000"/>
                <a:lnTo>
                  <a:pt x="0" y="29998"/>
                </a:lnTo>
                <a:arcTo wR="3600" hR="3600" stAng="10800000" swAng="-5400000"/>
                <a:lnTo>
                  <a:pt x="18000" y="33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3840" y="4114800"/>
            <a:ext cx="1928880" cy="825480"/>
          </a:xfrm>
          <a:prstGeom prst="rect">
            <a:avLst/>
          </a:prstGeom>
          <a:solidFill>
            <a:srgbClr val="ff7c80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 left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43200" y="2438280"/>
            <a:ext cx="3352680" cy="3048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47080" y="4267080"/>
            <a:ext cx="2148120" cy="825480"/>
          </a:xfrm>
          <a:prstGeom prst="rect">
            <a:avLst/>
          </a:prstGeom>
          <a:solidFill>
            <a:srgbClr val="99ff99"/>
          </a:solidFill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 right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eck every item onc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q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vide data in half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duc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me as Heap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quickso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ly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faster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wer compari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ils later (and assignment 2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t there’s a catch …………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he truth!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we use quicks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data that’s already sorted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or nearly sor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’d certainly expect it to perform well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 sor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or each c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a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hift up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ser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irst card requir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, sec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card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perations   </a:t>
            </a:r>
            <a:r>
              <a:rPr b="1" lang="en-US" sz="2000" spc="-1" strike="noStrike">
                <a:solidFill>
                  <a:srgbClr val="063de8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92920" y="3701880"/>
            <a:ext cx="523440" cy="794520"/>
            <a:chOff x="4192920" y="3701880"/>
            <a:chExt cx="523440" cy="794520"/>
          </a:xfrm>
        </p:grpSpPr>
        <p:sp>
          <p:nvSpPr>
            <p:cNvPr id="65" name=""/>
            <p:cNvSpPr/>
            <p:nvPr/>
          </p:nvSpPr>
          <p:spPr>
            <a:xfrm>
              <a:off x="4194000" y="385416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92920" y="4159080"/>
              <a:ext cx="45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70680" y="370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he truth!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68640" y="259092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54560" y="25909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0640" y="25909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25909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25909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79960" y="25909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6400" y="25909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92840" y="25909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00720" y="25909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20240" y="190512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236232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29000" y="2438280"/>
            <a:ext cx="3429000" cy="12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83000" y="3276720"/>
            <a:ext cx="1172880" cy="4597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2514600"/>
            <a:ext cx="1523880" cy="1371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884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320040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he truth!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rti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problem of size 0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 one of size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n-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arti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21120" y="175248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704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1348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2636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3244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4532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5356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1600200"/>
            <a:ext cx="342900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236232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0704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1348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2636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3244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4532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5356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3124080"/>
            <a:ext cx="3047760" cy="12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46880" y="388620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720" y="106668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152388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56840" y="259092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3320" y="304812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he truth!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arti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problem of size 0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 one of size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n-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parti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ach needing time</a:t>
            </a: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t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nO(n)  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Quicksort is as bad as bubble or insertio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21120" y="175248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0704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1348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2636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3244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5320" y="1752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53560" y="1752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1600200"/>
            <a:ext cx="342900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36232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0704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61348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2636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3244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45320" y="32767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53560" y="32767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3124080"/>
            <a:ext cx="3047760" cy="12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46880" y="388620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720" y="106668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52388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6840" y="259092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3320" y="304812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he truth!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havi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epends on the partitions being nearly equ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log n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f th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verage, this wi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ar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quicksort is generall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n we do anything to ensur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)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 general, 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But we can improve our chances!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Choice of the pivo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pivot will work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a different pivo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that the partitions are equ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e will se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21120" y="236232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07040" y="23623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13480" y="23623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23623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26360" y="23623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32440" y="23623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38880" y="23623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45320" y="236232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53560" y="236232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6160" y="1676520"/>
            <a:ext cx="909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32640" y="213372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2286000"/>
            <a:ext cx="198144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1440" y="3048120"/>
            <a:ext cx="1172880" cy="459720"/>
          </a:xfrm>
          <a:prstGeom prst="rect">
            <a:avLst/>
          </a:prstGeom>
          <a:solidFill>
            <a:srgbClr val="ff7c80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48320" y="2286000"/>
            <a:ext cx="182880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2895480"/>
            <a:ext cx="11728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dian-of-3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3 positions and choose the medi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ay   …  First, middle, la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edia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erfect division of sorted data every tim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sorted (or nearly sorted) data is common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n-of-3 is a good 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specially if you think your data may be sorted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06520" y="240048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92440" y="2400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98880" y="2400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2400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11760" y="2400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7840" y="2400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2400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30720" y="24004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38960" y="24004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20955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20955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20955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a pivot random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fferent position for every parti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On average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orted data is divided even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ivot choice must tak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uaranteed O(n log n)?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ivot selection strategy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uld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ead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median-of-3 choose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e partition of 1 an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e partition of 7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it chooses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e of 1 an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ne of 5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354640" y="293364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40560" y="293364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46640" y="293364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553080" y="293364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59520" y="293364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65960" y="293364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772400" y="293364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78840" y="293364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86720" y="293364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62920" y="262908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562720" y="262908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763120" y="2629080"/>
            <a:ext cx="0" cy="3045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4640" y="4000680"/>
            <a:ext cx="3636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40560" y="40006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6640" y="40006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40006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59520" y="40006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65960" y="40006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72400" y="40006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8840" y="4000680"/>
            <a:ext cx="40464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586720" y="4000680"/>
            <a:ext cx="405000" cy="459720"/>
          </a:xfrm>
          <a:prstGeom prst="rect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43800" y="36957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6957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763120" y="369576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3809880"/>
            <a:ext cx="685800" cy="914400"/>
          </a:xfrm>
          <a:prstGeom prst="rect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72200" y="3809880"/>
            <a:ext cx="2819520" cy="914400"/>
          </a:xfrm>
          <a:prstGeom prst="rect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8 - Key Poi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bble, Inser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un faster for small n,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~10 (system  depend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Quick Sor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8 - Key Poi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    but …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s on pivot se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edian-of-3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andom pivot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etter but not guaranteed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nsertion sor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or each c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a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     O(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hift up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nsert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irst card requir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, sec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card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perations   </a:t>
            </a:r>
            <a:r>
              <a:rPr b="1" lang="en-US" sz="2000" spc="-1" strike="noStrike">
                <a:solidFill>
                  <a:srgbClr val="063de8"/>
                </a:solidFill>
                <a:latin typeface="Monotype Sorts"/>
                <a:ea typeface="Monotype Sorts"/>
              </a:rPr>
              <a:t>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192920" y="3701880"/>
            <a:ext cx="523440" cy="794520"/>
            <a:chOff x="4192920" y="3701880"/>
            <a:chExt cx="523440" cy="794520"/>
          </a:xfrm>
        </p:grpSpPr>
        <p:sp>
          <p:nvSpPr>
            <p:cNvPr id="71" name=""/>
            <p:cNvSpPr/>
            <p:nvPr/>
          </p:nvSpPr>
          <p:spPr>
            <a:xfrm>
              <a:off x="4194000" y="385416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2920" y="4159080"/>
              <a:ext cx="45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70680" y="370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 flipV="1">
            <a:off x="4419720" y="1905120"/>
            <a:ext cx="685800" cy="380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16920" y="1981080"/>
            <a:ext cx="2511000" cy="1860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chan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up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requir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11680" y="1219320"/>
            <a:ext cx="29566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105520" y="3200400"/>
            <a:ext cx="121896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y bother?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Heapsort inste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sort i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gener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ewer comparisons and exchang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ome empirical data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930240" y="3048120"/>
          <a:ext cx="8747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3048120"/>
                    <a:ext cx="8747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772400" y="3048120"/>
            <a:ext cx="1066680" cy="121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3048120"/>
            <a:ext cx="91440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3048120"/>
            <a:ext cx="91440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048120"/>
            <a:ext cx="91440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y bother?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ormalisation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works when you have a hypothesis to work with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04920" y="2362320"/>
          <a:ext cx="8459640" cy="52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845964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2743200" y="44956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41148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41148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15200" y="41148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4952880"/>
            <a:ext cx="2514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9600" y="426708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vs Heap Sor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Generally faster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ometime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pivot selection reduces prob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Use when you want average good performanc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applications, Information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Generally slower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uaranteed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…  Can design this in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Use for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al-time system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is a constra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brary 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OSIX stand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8640" y="220968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qsort( void *base, size_t n, size_t siz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nt (*compar)( const void *, const void *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        address of arr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n           number of el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ize        size of an el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mpar      comparis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371600" y="3276720"/>
            <a:ext cx="68580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Quick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ibrary implementa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OSIX standard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ompariso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unction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 allows you to pass a function to another function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8640" y="1676520"/>
            <a:ext cx="825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qsort( void *base, size_t n, size_t size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int (*compar)( const void *, const void *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        address of arr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n           number of el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ize        size of an el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mpar      comparis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Insertion Sort - Implement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challenge for y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ode in the notes (and on the Web) has an erro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rst person to email a correct version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gets up to 2 extra marks added to their final mark if that would move them up a grad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you had x8% or x9%, it goes to (x+1)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qualify, you need to point out the error in the original, as well as supply a corrected version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Bubble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first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change pairs if they’re out of ord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one must now be the larg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eat from the first to n-1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p when you have only one element to check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ubble Sor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Bubble sort for integer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SWAP(a,b)   { int t; t=a; a=b; b=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ubble( int a[], int n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i&lt;n;i++) { /* n passes thru the array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rom start to the end of unsorted par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1;j&lt;(n-i);j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adjacent items out of order, swap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a[j-1]&gt;a[j] ) SWAP(a[j-1],a[j]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342900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19112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ubble Sort -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Bubble sort for integer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SWAP(a,b)   { int t; t=a; a=b; b=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ubble( int a[], int n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i&lt;n;i++) { /* n passes thru the array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rom start to the end of unsorted par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1;j&lt;(n-i);j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adjacent items out of order, swap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a[j-1]&gt;a[j] ) SWAP(a[j-1],a[j]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52080" y="4800600"/>
            <a:ext cx="232308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342900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19112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ubble Sort -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 Bubble sort for integer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SWAP(a,b)   { int t; t=a; a=b; b=t;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ubble( int a[], int n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i&lt;n;i++) { /* n passes thru the array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rom start to the end of unsorted part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j=1;j&lt;(n-i);j++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f adjacent items out of order, swap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( a[j-1]&gt;a[j] ) SWAP(a[j-1],a[j]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44080" y="4724280"/>
            <a:ext cx="4142160" cy="914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, … ,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2080" y="4800600"/>
            <a:ext cx="2323080" cy="509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8-10T08:08:30Z</cp:lastPrinted>
  <dcterms:modified xsi:type="dcterms:W3CDTF">1998-08-10T08:47:36Z</dcterms:modified>
  <cp:revision>12</cp:revision>
  <dc:subject/>
  <dc:title>Data Structures and Algorithms</dc:title>
</cp:coreProperties>
</file>