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s are a special form of collec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ush( Stack s, void *item );</a:t>
            </a:r>
            <a:br>
              <a:rPr sz="20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- add item to the top of the stac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5420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pop( Stack s );</a:t>
            </a:r>
            <a:br>
              <a:rPr sz="20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- remove an item from the top of the stac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a plate stac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sEmpty( Stack s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Return TRUE if empty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Top( Stack s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Return the item at the top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without deleting it */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2" name="stack" descr=""/>
          <p:cNvPicPr/>
          <p:nvPr/>
        </p:nvPicPr>
        <p:blipFill>
          <a:blip r:embed="rId1"/>
          <a:stretch/>
        </p:blipFill>
        <p:spPr>
          <a:xfrm>
            <a:off x="6229440" y="4105440"/>
            <a:ext cx="21524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-17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rovide a stack capacity to the constructor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lexibility limited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matches many real us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720360" indent="-139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limited by some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5960" indent="-139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emory in your comput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975960" indent="-139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ze of the plate stacker, etc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-174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, p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aria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ToC…, DeleteFromC…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ed list also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asically a Collection with special semantics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elevanc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s appear in computer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ey to call / return in functions &amp; procedur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ack frame allows recursive call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all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tack fra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turn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tack fra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 fr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unction argumen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turn addres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-2084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cal variabl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55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tack Fram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unctions in HLL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stackframe" descr=""/>
          <p:cNvPicPr/>
          <p:nvPr/>
        </p:nvPicPr>
        <p:blipFill>
          <a:blip r:embed="rId1"/>
          <a:stretch/>
        </p:blipFill>
        <p:spPr>
          <a:xfrm>
            <a:off x="5533920" y="1447920"/>
            <a:ext cx="33051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4960" y="1828800"/>
            <a:ext cx="4600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f( int x, int y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t 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f ( term_cond ) return …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 = ….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g( a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g( int z 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int p, q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 = …. ; q = …. 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 f(p,q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4038480"/>
            <a:ext cx="312408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62840" y="5638680"/>
            <a:ext cx="282564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ecu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7800" y="5409720"/>
            <a:ext cx="30492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curs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useful techniq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finition of mathematical functio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finition of data structur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structures are naturally processed by recursive function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curs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ry useful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finition of mathematical functio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finition of data structur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structures are naturally processed by recursive function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ly define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actori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bonacci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GCD by Euclid’s algorith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urier Transfor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Gam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wers of Hano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cursion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Exampl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onacci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1240" y="2362320"/>
            <a:ext cx="4246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b( n ) = if ( n = 0 ) th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if ( n = 1 ) th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fib(n-1) + fib(n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9240" y="3809880"/>
            <a:ext cx="69472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b(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 &lt; 2 ) return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return fib(n-1) + fib(n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2000" y="23623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seudo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432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3520" y="56386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imple, elegant sol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cursion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Example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onacci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1880" y="2133720"/>
            <a:ext cx="69472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b(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 &lt; 2 ) return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return fib(n-1) + fib(n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28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763600">
            <a:off x="1063080" y="2438280"/>
            <a:ext cx="762012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ut,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the Fibonacci case,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run-time disaster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1960" y="4173480"/>
            <a:ext cx="7576200" cy="91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many recursive func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nary search, are simple, elegant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nd effici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7-20T02:58:02Z</cp:lastPrinted>
  <dcterms:modified xsi:type="dcterms:W3CDTF">1998-07-26T03:57:32Z</dcterms:modified>
  <cp:revision>8</cp:revision>
  <dc:subject/>
  <dc:title>PLSD210(ii)</dc:title>
</cp:coreProperties>
</file>